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108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040" y="4413240"/>
            <a:ext cx="5181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264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62520" y="88264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E365-6FF2-4ED7-9C75-E673AC1F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144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13240"/>
            <a:ext cx="5181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sively Expanded vari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you specify is installed verbatim; if it contains references to other variables, they are deferred until expansion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upported by other m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 is:  you can define a rule to use $(CC) $(CFLAGS), then define CFLAG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: CFLAGS = $(CFLAGS) –O doesn’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Disadvantage is: functions are called multiple times (once per assignment) when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y expanded vari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: evaluated once and assig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144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040" y="4413240"/>
            <a:ext cx="5181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bling deriv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413240"/>
            <a:ext cx="5181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G – Directed Acycl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040" y="4413240"/>
            <a:ext cx="5181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ever go away from ClearCase – Gnu syntax will work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785-34A7-4906-BB16-A228EB86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D1D-F1E7-46A2-A89E-B95B296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FB9-46DE-4821-8AE6-9A43887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00D-3170-492A-95FF-02870B42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10DE-E355-4CEC-80D9-F67B228E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827F6-A3EE-48F6-82E9-F9B0EA0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1016-D90B-4F71-A1F7-145FB64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4B0D7-618C-449A-BBC3-14A14B2E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C8DC7-2554-44D8-A873-97AF5EC0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9E86-560C-4C61-8F74-4930F3C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D8591-2650-450B-8F6D-44EE2BA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370-EED8-46E6-BD79-C7E9E4C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1F842-6ED9-4432-85B5-88D7C10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1526-186A-4FD9-9F5D-DD58EB4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55D83-10E0-499C-B837-325BFE6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86A29-5EFB-4810-A047-D38AC37B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CCFE-7203-4AF1-BF57-B062F62C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501-5A0D-4793-B168-515860F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D5C-5B3B-4247-A772-7B86AE9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CD0-7B02-46D1-949E-6B8E486E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23C-DB87-49CA-B190-8B255FCF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70A-2A1A-490F-9A00-C05582B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E78-FE3A-4EC4-8A63-A14E0D5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0AE-6006-457E-A7A2-C020A12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367-F52C-4E77-831B-3B1F544FE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DAA-05F6-4624-B0C4-1776069EF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u.org/manual/make-3.79.1/html_mono/mak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earMake Tips &amp; Tric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Dar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MRCCUG 12/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at make sense 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determine NT or Unix plat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handle snapshot view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difference between = &amp; :=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y tar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&amp;&amp; within scripts (single 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ing default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et environment vari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do you determine NT or Unix platfor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Dynamically determine the platform we are building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indows: PLATFORM=Windows_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Solaris: PLATFORM=Su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eq (,$(strip $(filter PROCESSOR_ARCHITECTURE=%, $(shell set))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     := $(shell uname -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     := $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handle snapshot view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RO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= $(subst \,/,$(shell cleartool pwv -s -root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eq ($(filter-out /%,$(CCROOT)),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This doesn’t have a drive letter.  Best we can do is assume that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urrent working directory is on the drive we w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Note with cygwin we rely on the fact that it treats the drive l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as its mounts/maps. U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ingDirectory := $(shell cleartool pw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iveLetter      := $(firstword $(subst :, ,$(workingDirectory)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neq ($(driveLetter),$(workingDirectory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ROOT := $(driveLetter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difference between = &amp; :=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is recursively exp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= 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= $(x)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=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: ; echo $(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= is simply exp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:= 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:= $(x)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:=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: ; echo $(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y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Debug: print a particular variable (EX: clearmake var var=PLATFOR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PHONY  : var env sh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    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$(var) = \"$($(var))\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Debug: print the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    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$(EN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Debug: interactive make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  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$${SHELL} &lt;/dev/t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y targets -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PHONY: clean allclean pro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ean: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+ removing all DO's from view ..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eartool lsp -s -do -invob ${CMKROOT} | sort -r |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(PERL) -ne 'chomp; if ($$_ =~ '\''^${CCROOT}/'\'') { print "$$_\n"; unlink||rmdir }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clean: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+ removing all DO's and view-privates from view ..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eartool lsp -s -do -oth -invob ${CMKROOT} | sort -r |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(PERL) -ne 'chomp; if ($$_ =~ '\''^${CCROOT}/'\'') { print "$$_\n"; unlink||rmdir }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promote all DO's (all platforms and sr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m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+ promoting all DO's to their VOB(s) ..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eartool lsp -s -do | sort |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(PERL) -ne "chomp; s%\\\\%/%g; print qq(\$$_\n) if -f" | $(VIEW_SCRUBBER) -p -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y targets -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Y : he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p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Available targets: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all               Build all platform targets (default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local           Build targets for current directory onl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clean          Clean DO's in a parallel obj director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allclean      Clean all DO's and all view-privates from view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promote     Promote all DO'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var              Print an internal variable: cmake var var=foo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env             Print the entire environment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shell            Run an interactive shell with the make env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@echo "  help            Print this information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&amp;&amp; withi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WS_APP_HOME)/html/version.html : $(WS_APP_HOME)/imports/$(IMPORT)PKG.j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PREFACE)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RM_TARGET)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MKDIR) $(@D)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d $(WS_APP_HOME)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JAR) xf $&lt; html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CHMOD) ug+w 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ing default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elete all default ru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suffix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ally – make everything qu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sile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Philosophy &amp;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0 Makefile Structure &amp;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0 Gnu syntax t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0 Build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 Sample Makefil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0 Mis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0 Makefile Ti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et environment vari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ontrol our build environment by wiping out hidden accesses from C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ort CLASSPATH :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ort LD_LIBRARY_PATH :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ort PATH :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ort LIB :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ort INCLUDE :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.0 Build Ru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termediate targets (source -&gt;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/C++ -&gt; Shar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/C++ -&gt; Exec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-&gt; J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.NO_DO_FOR_SIB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.0 Build Ru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ly reduces DO’s stored in V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“DAG” (target : depend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s C++ Shared Library problem on So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s the Jav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optimization (cross-rout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than compiling all files individ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what-strings for tracking outside Clear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ly slower when compiling a single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.0 Build Rules – C++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CCROOT)/lib/libfoo.so : $(CCROOT)/src/src1.cpp $(CCROOT)/src/src2.cpp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PREFACE) &amp;&amp;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CMKCMK)/shlib.ksh "$@" "cpp" "$(CXX)"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$(strip $(SHLIB_FLAGS) $(CXXFLAGS) $(LFLAGS) $(LIBS))"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(filter-out %$(SO),$^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.0 Build Rules – Java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PATH      := $(subst $(space),$(C),$(strip $(wildcard $(WS_APP_HOME)/lib/*.jar $(WS_APP_HOME)/lib/*.zip $(WS_APP_RUNTIME)/lib/*.jar $(WS_APP_RUNTIME)/lib/*.zip $(DAS_CLASS))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R_NAME        := $(WS_COMPON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R_RESOURCES   := fi/resource/data/domain/*.csv fi/resource/server/*.proper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R_DIRS        := fi fi/domain fi/domain/common fi/domain/common/decorator \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/domain/common/test fi/domain/server/xml fi/domain/util fi/resource/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 $(WS_APP_HOME)/sources/drule_jar.i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.0 Sample Makefile Analysi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#1: Single Java App &amp; incl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#2: Source fra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6.0 Mis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DB – Cross Referenc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Boyce contribution on C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NU Mak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gnu.org/manual/make-3.79.1/html_mono/mak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sive make article by Peter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Case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0 Philosophy &amp;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sive make considered harm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ip.net.au/~millerp/rmch/recu-make-cons-harm.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se of a single project Makefile is not as difficult to put into practice as it may first appe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termediate tar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uild time improvements can be achieved with Makefile modifications than hardware modifications/upg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s a target / dependency analyzer and not a script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0 Philosophy &amp;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PATH – never us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used is in ClearCase and correctly recorded in the C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imate goal – single DAG, let make do th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nu syntax works every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nt results: ~3:30 / ~0:26 / ~0: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monolithic Makefil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 control / merges – y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make –f &lt;what file wher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ssociation between source and build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file “fragmen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ly longer startup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DAG – correct 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files similar to “recursive” Make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make –f Makefile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association between source and build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ontrolled buil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implement Makefile frag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op-level Mak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number of Makefile fragments (1 per subdirect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/vobs_app/src/Makef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LEVE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= 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cleartool pwv -root is to handle snapshot views (we expect to find cleartool on our path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CRO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= $(subst \,/,$(shell cleartool pwv -s -root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BTA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= /vobs_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Establish 'all' as the first/default targ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Include standard macros &amp; 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$(CCROOT)/$(VOBTAG)/cmk/Make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Include application fragment Make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 :=   $(CCROOT)/$(VOBTAG)/src/subdi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$(DIR)/Make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 :=   $(CCROOT)/$(VOBTAG)/src/subdi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$(DIR)/Make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0 Makefile Structure &amp; U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371600"/>
            <a:ext cx="8305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eq ($(TOPLEVEL)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cal_targets = $(LOCAL_TARGE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$(shell cleartool pwv -s -root)/vobs_app/src/Make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 Regular Makefile stu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0:34:18Z</dcterms:created>
  <dc:creator>a200839</dc:creator>
  <dc:description/>
  <dc:language>en-US</dc:language>
  <cp:lastModifiedBy>a200839</cp:lastModifiedBy>
  <dcterms:modified xsi:type="dcterms:W3CDTF">2002-12-10T19:36:42Z</dcterms:modified>
  <cp:revision>25</cp:revision>
  <dc:subject/>
  <dc:title>ClearMake Tips&amp; Tricks</dc:title>
</cp:coreProperties>
</file>