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EEF-8821-4E9C-96B6-09496B47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BB6-69F0-49F0-82E8-20A96BD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C74-FA82-4B55-B656-F7206BF4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B13-A666-4A51-AC86-95E175C9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15B-91B4-40C0-83F7-0BBE5A9C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5D0-CBEC-45F6-BCE5-BA89F667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6148-9241-4F3B-BA66-FEC000A8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1FD-D839-466B-A388-72F268F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A189-A4F8-4788-8795-5764D74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F728-753B-4893-A43E-0879E9D3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9DE4-17FE-4229-9FC0-E674028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141-D86F-4C65-8756-4F58732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8860-5314-4229-8700-3BDEC21A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124F-CFA3-4876-9A6F-29211998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98DF-6DEE-4231-A331-C38FD4A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3BB-C3BB-4C15-AD0D-49675A1B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ABF-8855-4389-8C88-9B7B6B0C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1C4-08D1-4601-90D4-DB6746A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041-D048-4AAD-8CD4-F2CD1B8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1CE-F1D9-4601-8528-5B53BD1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CE2-FFCE-46DD-B586-F38D13EA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AED-36A5-43E5-86DB-3441A06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DE2-067F-4E6D-A395-BF717EA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197-3795-4403-B7C8-11D5CC8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42E-A606-48D2-8913-0E8ACD6FC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5FC6-4002-4E21-A063-3632CDF0F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lease Engineering Inc.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9047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. Sandy Currier et. 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vanced RE Task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gration of SCM and installation environm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upport a reverse information flow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upport a sane maintenance &amp; patching release proces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thers..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ociated Business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ease Engineering Bottleneck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velopers idle while waiting for releas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stly additions to production schedul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w release repeatability (decreases CMM levels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t III - ReleaseTool™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Release Engineering too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s on both NT and UNIX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utomates and simplifies the Art &amp; Science of releasing softwar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easeTool™ Provid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werful BuildArea to ReleaseArea file mapp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utomated, fully characterized releasing with logg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mplified and repeatable release proces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erification of ReleaseAreas on deman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easeTool™ Solutio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CM and installation environments integrated (reverse information flow supported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velopers can perform releases (during debug cycles!, etc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leasing occurs at machine speeds (not huma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reates groundwork for a sane maintenance and patching proces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easeTool Technical Highligh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195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upports ACLs, permissions, MD5 signatures, SCM staging, etc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upports product/component decomposit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grated with several SCM vendo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phisticated error handl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ighly configurabl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ollow-on Produc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ownstream produc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KitTool - ReleaseTool plus kitting tool integr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stallTool - a ReleaseTool data aware install/deploy too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tchTool - a ReleaseTool data aware patching too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mpany Inform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nded in 1998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tively securing first round fund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tively searching for partners, peopl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ffer SCM and RE consulting servic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t I - A workflow decomposition of the Art and Science of software release engineering (RE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t II - Problems encountered while engineering software releas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t III - Overview of the ReleaseTool™ Product Suit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Part I: Three RE Workflow Decomposition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duct Development, IT, and e-Commer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vea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glory is always in the details…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oes not include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ranching/merging strateg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motion techniques (QA, system-test, etc.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0" y="327672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27672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27672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27672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27672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35812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Kit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ypical Product Development Workflow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ftware 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053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551400"/>
            <a:ext cx="73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266688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Ki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590920"/>
            <a:ext cx="63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Buil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419720"/>
            <a:ext cx="990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ource + Derive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Objec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04812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04812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04812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5909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50532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ourc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4560" y="3551400"/>
            <a:ext cx="639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Buil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5909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Copyou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5720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495680"/>
            <a:ext cx="106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(sandbox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048120"/>
            <a:ext cx="7300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495680"/>
            <a:ext cx="103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hipping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5053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SC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Repositor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49568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Zip File  .gz Fil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CDROM 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Website  …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429000"/>
            <a:ext cx="0" cy="2286000"/>
          </a:xfrm>
          <a:prstGeom prst="line">
            <a:avLst/>
          </a:prstGeom>
          <a:ln w="93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299200"/>
            <a:ext cx="26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CM environme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1520" y="533412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utside SC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440" y="586728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side Enterpri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1371960" y="5029560"/>
            <a:ext cx="45712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4" y="0"/>
                </a:moveTo>
                <a:arcTo wR="10800" hR="10800" stAng="-5392344" swAng="5392344"/>
                <a:lnTo>
                  <a:pt x="10800" y="10800"/>
                </a:lnTo>
                <a:close/>
              </a:path>
              <a:path fill="none" w="21600" h="21600">
                <a:moveTo>
                  <a:pt x="10824" y="0"/>
                </a:moveTo>
                <a:arcTo wR="10800" hR="10800" stAng="-5392344" swAng="5392344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10800000">
            <a:off x="3810600" y="5029560"/>
            <a:ext cx="45712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4" y="0"/>
                </a:moveTo>
                <a:arcTo wR="10800" hR="10800" stAng="-5392344" swAng="5392344"/>
                <a:lnTo>
                  <a:pt x="10800" y="10800"/>
                </a:lnTo>
                <a:close/>
              </a:path>
              <a:path fill="none" w="21600" h="21600">
                <a:moveTo>
                  <a:pt x="10824" y="0"/>
                </a:moveTo>
                <a:arcTo wR="10800" hR="10800" stAng="-5392344" swAng="5392344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27240" y="6308640"/>
            <a:ext cx="120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lide 1 of 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724280" y="3352680"/>
            <a:ext cx="1052640" cy="10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352680"/>
            <a:ext cx="1052280" cy="10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81916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ftware Instal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65760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Kit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124080"/>
            <a:ext cx="7300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5812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Instal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25909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Instal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419720"/>
            <a:ext cx="140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The “Product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Distribution Medi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4495680"/>
            <a:ext cx="1127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End-Us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ystem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55240" y="5375160"/>
            <a:ext cx="30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nd User Environment,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utside Enterpri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6840" y="2936880"/>
            <a:ext cx="252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vents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) File copi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) System sta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(registry, syst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resources, etc.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1752480" y="4876920"/>
            <a:ext cx="22852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4" y="0"/>
                </a:moveTo>
                <a:arcTo wR="10800" hR="10800" stAng="-5392344" swAng="5392344"/>
                <a:lnTo>
                  <a:pt x="10800" y="10800"/>
                </a:lnTo>
                <a:close/>
              </a:path>
              <a:path fill="none" w="21600" h="21600">
                <a:moveTo>
                  <a:pt x="10824" y="0"/>
                </a:moveTo>
                <a:arcTo wR="10800" hR="10800" stAng="-5392344" swAng="5392344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10800000">
            <a:off x="4420080" y="4876920"/>
            <a:ext cx="22852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4" y="0"/>
                </a:moveTo>
                <a:arcTo wR="10800" hR="10800" stAng="-5392344" swAng="5392344"/>
                <a:lnTo>
                  <a:pt x="10800" y="10800"/>
                </a:lnTo>
                <a:close/>
              </a:path>
              <a:path fill="none" w="21600" h="21600">
                <a:moveTo>
                  <a:pt x="10824" y="0"/>
                </a:moveTo>
                <a:arcTo wR="10800" hR="10800" stAng="-5392344" swAng="5392344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6760" y="6324480"/>
            <a:ext cx="120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lide 2 of 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ypical Product Development Workflow (cont.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68920" y="3360600"/>
            <a:ext cx="1052280" cy="10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352680"/>
            <a:ext cx="1052640" cy="10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352680"/>
            <a:ext cx="1052640" cy="10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ypical Information Technology (IT) Flow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352680"/>
            <a:ext cx="1052280" cy="10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49920" y="3537000"/>
            <a:ext cx="865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505320"/>
            <a:ext cx="73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5909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Buil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343400"/>
            <a:ext cx="9907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ource + Derive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Objec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04812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04812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04812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3623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Release /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Deplo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505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ourc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350532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Buil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2590920"/>
            <a:ext cx="10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Copyou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4956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(sandbox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495680"/>
            <a:ext cx="106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Deploye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581280"/>
            <a:ext cx="111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CM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Reposito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42900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89520" y="2286000"/>
            <a:ext cx="279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vents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) File copi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) Lightweigh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ystem sta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3) Promotion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181480"/>
            <a:ext cx="26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CM environme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2920" y="52164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utside SC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79840" y="57499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side Enterpri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1143360" y="4911840"/>
            <a:ext cx="45712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4" y="0"/>
                </a:moveTo>
                <a:arcTo wR="10800" hR="10800" stAng="-5392344" swAng="5392344"/>
                <a:lnTo>
                  <a:pt x="10800" y="10800"/>
                </a:lnTo>
                <a:close/>
              </a:path>
              <a:path fill="none" w="21600" h="21600">
                <a:moveTo>
                  <a:pt x="10824" y="0"/>
                </a:moveTo>
                <a:arcTo wR="10800" hR="10800" stAng="-5392344" swAng="5392344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rot="10800000">
            <a:off x="3582000" y="4911840"/>
            <a:ext cx="45712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4" y="0"/>
                </a:moveTo>
                <a:arcTo wR="10800" hR="10800" stAng="-5392344" swAng="5392344"/>
                <a:lnTo>
                  <a:pt x="10800" y="10800"/>
                </a:lnTo>
                <a:close/>
              </a:path>
              <a:path fill="none" w="21600" h="21600">
                <a:moveTo>
                  <a:pt x="10824" y="0"/>
                </a:moveTo>
                <a:arcTo wR="10800" hR="10800" stAng="-5392344" swAng="5392344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057400" y="342900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429000"/>
            <a:ext cx="1052640" cy="10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ypical e-Commerce (Web) Flow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637000" y="3627360"/>
            <a:ext cx="73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200400"/>
            <a:ext cx="731880" cy="18252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0" y="576"/>
                </a:moveTo>
                <a:cubicBezTo>
                  <a:pt x="192" y="288"/>
                  <a:pt x="384" y="0"/>
                  <a:pt x="576" y="0"/>
                </a:cubicBezTo>
                <a:cubicBezTo>
                  <a:pt x="768" y="0"/>
                  <a:pt x="1056" y="480"/>
                  <a:pt x="1152" y="5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3657600"/>
            <a:ext cx="914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ourc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e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6668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Copyou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4572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57200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(sandbox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657600"/>
            <a:ext cx="10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SCM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Reposito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971800"/>
            <a:ext cx="303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aveats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) Possibly 100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thin SC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) Possibly no buil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3) Promotion and SC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sage models bot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7360" y="51814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side SCM environme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t II: The Basic RE Proble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pping BuildAreas to ReleaseAreas to KitAreas to InstallAre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uildAreas are optimized/organized for software developmen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leaseAreas are optimized/organized for release-time consider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stallAreas are optimized/organized for run-time consider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asic RE Tasks Arising From the Proble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utomate this downstream production flow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aracterize and verify the production flow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move the Hit-By-A-Bus syndrome (simplify i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thers ..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00:50:39Z</dcterms:created>
  <dc:creator>Sandy Currier</dc:creator>
  <dc:description/>
  <dc:language>en-US</dc:language>
  <cp:lastModifiedBy>STSCURS</cp:lastModifiedBy>
  <cp:lastPrinted>1999-07-20T19:16:26Z</cp:lastPrinted>
  <dcterms:modified xsi:type="dcterms:W3CDTF">1999-07-21T17:08:12Z</dcterms:modified>
  <cp:revision>105</cp:revision>
  <dc:subject/>
  <dc:title>RipTide Software</dc:title>
</cp:coreProperties>
</file>