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1AC-4B85-486A-AF0B-78D530CD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FE29-87C6-482D-8150-328E727B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EAC-3EDD-4834-9B11-5CB66813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D5B-9D57-49B2-AF5F-28F9700E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3C28-EC6B-4482-860E-EB9E9BAD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DCC0-3345-4F32-B22C-48B46D25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71CB-D279-40A9-9DFD-668E6296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F902-8A41-4DED-B87E-7FA54731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E961-37AA-4AFD-9986-2EA400AB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B147-B861-4A2D-87FF-6609853F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DD59-EF34-479A-A464-96F62DC6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AF7-F3E6-49CF-B4F5-B26420EC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2AB7-29B2-4365-847A-251CEFAB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DA27-1481-4907-A6AC-1B6D8487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AEF5-FBE5-4F39-AF82-C7E318F9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7BEA-8838-4552-ACBA-33344C6A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8E97-9457-4C4A-B497-B0D3DCF1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AC5-BF15-4474-9163-626B38C4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D75-D587-438F-B05B-9AB4AC9D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E11-BD3E-4807-85E0-07D5C90F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5D2-A91F-4789-B9A7-D358C47F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6CF-D1B7-40CD-AF0F-D58EDA53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E45-D777-4DDB-B223-4554BE3A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DE3-B17D-45F8-94F7-87B86982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F334-8C2F-431D-AD46-161CB5136DF9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5BAF-AB3F-4C02-91FB-995BB135B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842B-D92D-40FC-ABF6-63AC9EECC71B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875B-9F6D-4C5C-83AE-8E4C259185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earCase UNIX/NT Interoperability Using Samba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d Boy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d Dar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ample smb.conf (global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# Global parame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ver string = Samba ClearCase VO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kgroup = &lt;MY_DOMAIN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curity = 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crypt passwords = 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word server = &lt;PDC&gt; &lt;BDC1&gt; &lt;BDC2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ent code page = 43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x open files = 10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x log size =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ns server = 155.1.58.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llow hosts = 172.26.0.0/255.255.0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uest account = pcgu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t descend = /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sts deny = &lt;troublesome machin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D9F-1FA9-4039-BAE0-DE35C97D5E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91EFE-74BE-45C2-84A8-F06030F9F5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ample smb.conf (per share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# Per Share parame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[vbstor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ment = ClearCase VOB Stor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th = /data/ccase/vbs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min users = vobadm clearcase_alb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 list = @ccus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rite list = @ccus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 only = 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[vwstor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ment = ClearCase View Stor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th = /data/ccase/vwstore/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min users = vobadm clearcase_alb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 list = @ccus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rite list = @ccus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 only = 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F31C-EB02-408E-B93F-E3C536950B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DA294-F9AB-4532-8DDD-3F47F16D29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DC Group File Chang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solidFill>
            <a:srgbClr val="008080"/>
          </a:solidFill>
          <a:ln w="507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--[changed 1]---------------|-------------[changed to 1]-----------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root::0:root                     | root::0:root,vobadm,ds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|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--[changed 5]---------------|-------------[changed to 5]-----------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dm::4:root,adm,daemon           | adm::4:root,adm,daemon,vobadm,ds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|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--[changed 13]--------------|-----------[changed to 13-15]---------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| ccusers::29000:vobadm,dsb,tom,sal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| clearcase::30001:clearcase_alb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|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4A44-362C-4D2B-9FA0-E09389992F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1748D-2FC2-430F-9113-4F1719F7E3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User Ma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vobadm=clearcase_al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F5C-D620-4314-9991-5460CA404F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21962-4AA5-42E8-B659-02F33C94EE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roup Ma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=Administ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"Domain Admins”="Domain Admin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ff=“Domain Use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EB66-B73F-4897-B70D-C6F05369D7D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956FD-69CD-49D2-BF60-654F3D49EF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ystem Configuration #1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Samba Stu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wat          901/tcp                           # Samba Windowed Admin T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inetd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Samba Stu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wat         stream  tcp nowait.400  root /usr/local/samba/bin/swat sw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0E0-F012-40FD-BBF3-55102B732B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3029F-EFD3-4CFD-8008-24C8DEA10A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ystem Configuration #2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solidFill>
            <a:srgbClr val="008080"/>
          </a:solidFill>
          <a:ln w="507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rc2.d/S78samba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#! /sbin/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# Startup script for Solaris 7+/Samba 2+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# David Boyce 8/9/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ase "$1" 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tart)  /usr/local/samba/bin/smbd -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/usr/local/samba/bin/nmbd -D ;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top)   /usr/bin/pkill '[sn]mbd' ;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start|res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/usr/bin/pkill '[sn]mbd'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/usr/local/samba/bin/smbd -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/usr/local/samba/bin/nmbd -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/usr/bin/pgrep -l '[sn]mbd'  ;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*)      echo "Usage: $0 { start | stop | restart }" ; exit 1 ;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sa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0C0-0C56-4952-A0E7-BEA554CAEA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08EE8-857F-49EB-8581-A4BCAEAB40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amba Web Administration Too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hostname:9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interface to documen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interface to current activ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A76-266B-4AAB-9351-15B5EDE383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AB794-8A8D-46F2-A90D-F2202360F3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earcase Interoperabilit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hares liber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 Pe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g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Profiles (requires a subdi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ig Spe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all ar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b storage ar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2C5-F218-4848-9E0A-2B1F7EE42A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09CF4-8D1B-4190-9F12-E71D450F22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tra Benefi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es share (H:\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homes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nt = Home direc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 only = 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wseable = 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ent side - smbsh, smbclient, smb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ry changes - rpccl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way to practice for 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C1D-59B8-402E-9A22-B2793880A77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E6964-6688-47DC-801F-0C0C9E3E88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MB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SMB stand f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r Message Bl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to be called Lan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old protocols for WfWg/win95/98/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used for print sh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NFS stand f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 Fil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367-42C6-471E-8695-B34B89F1DC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3FD8C-6C04-430E-A96F-C7E8D3256C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samba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mailing lists t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s: comp.protocols.s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jaNews / Jeremy Alli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ping.be/linux-and-samba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home.germany.net/101/69082/samba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2918-631D-48A7-99F7-FE9A9BD49A3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843E7-7F84-4FE8-BAC2-70A9401535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 4.0 MUP (MS KB Q150807, Q17138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are registry key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rcase_albd acc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256 open files, clearcase_albd, and SF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-char legacy and white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A25-CCCD-4AE7-A7CC-3DE26772F74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2BDF2-F2A1-4E05-A9D5-21CD23F7DC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ips (con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“hosts allow” and “hosts deny” for rollout (and security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“kill -USR1 &lt;pid&gt;” to raise debug level and “kill -USR2” to lower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ples - ftp://ftp.cleartool.com/pub/Sam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B1A-6F69-4E26-99F3-D0F9613F0A8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4B41A-6315-4121-AD2E-6EF395A36D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FS vs. SMB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-client setup unnecess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soft’s SMB b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tter per 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eficial sid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590-28CE-4E90-AB50-268CF231F8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2F1CE-3E0E-4445-9EE2-63E3C5F92F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ther SMB Solu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Access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n’s PC-Netlink / 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 Appl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sp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e (Ma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0C7-A5EC-4A6E-B8B3-33464A2E04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066AE-24C9-4168-B1D5-03A69FF7AE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ur Experien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delity - DiskAccess to Samba 2.0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ess - NetAp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e Lab - Samba 2.1 PD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discussion of prin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A28-E249-47AC-883B-C2C1824FBA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200A9-5837-4AA5-9162-D61CAE37D1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amba Intr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4608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Rational’s TAS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sion History and Cap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2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 2.00 (1.9.18 - Stable 1.X vers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2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03 (work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2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04 (requires bugfi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2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05 (nktn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bd &amp; nmbd daem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locks always bad for inter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DC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issues for multiple ser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BE2-1517-4C45-8722-A728848DC5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6B576-BE5B-4535-BFC1-1AA359EDAA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amba Risk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supported - does it mat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’s the worst-case scenario? Occasional file corrup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co-exist with NF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E2E-D489-4E6C-AC0F-69AA165CFE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50DA9-BEC2-449A-8CEC-41CCB4AAA0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ownloading &amp; Building Samb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samba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= samba-latest.tar.g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 GNU Build (./config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gcc 2.8 (bug in &lt; 2.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build in /tmp (checks file lock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73C-B0A3-4CCF-8FAF-050EC25B4B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89813-CCE5-4A44-B91D-461B6F0278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amba Config Fi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usr/local/samba/lib/smb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and per-share config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keywords work in both pl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the testparm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te space is ignored on left of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bpassword 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ain group 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name 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CC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25A-8A26-449D-8E5E-FEBD1DB47D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23FD0-84DB-4642-BB56-401F3CFFA5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15:22:52Z</dcterms:created>
  <dc:creator>David Boyce</dc:creator>
  <dc:description/>
  <dc:language>en-US</dc:language>
  <cp:lastModifiedBy>ddarby</cp:lastModifiedBy>
  <dcterms:modified xsi:type="dcterms:W3CDTF">1999-09-22T00:11:22Z</dcterms:modified>
  <cp:revision>30</cp:revision>
  <dc:subject/>
  <dc:title>NFS vs. SMB</dc:title>
</cp:coreProperties>
</file>