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9.pct" ContentType="image/x-pict"/>
  <Override PartName="/ppt/media/image12.png" ContentType="image/png"/>
  <Override PartName="/ppt/media/image7.png" ContentType="image/png"/>
  <Override PartName="/ppt/media/image18.pct" ContentType="image/x-pict"/>
  <Override PartName="/ppt/media/image20.pct" ContentType="image/x-pict"/>
  <Override PartName="/ppt/media/image11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png" ContentType="image/png"/>
  <Override PartName="/ppt/media/image17.pct" ContentType="image/x-pict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D34E-EF66-4BC2-ABDB-FC168765D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84696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C5E4-67AB-4CCD-B9AD-4708A52FF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4696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7080" y="384696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8AA3-ADD5-4856-B545-43E530597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846960"/>
            <a:ext cx="250236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42400" y="3846960"/>
            <a:ext cx="250236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040" y="3846960"/>
            <a:ext cx="250236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68D9-F7D7-4F75-A438-09ABDC193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C0DB-3B68-4D87-B5FC-4CCDCB045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4695-F731-4993-ABDE-74A9BF4C5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6B1B-8EEA-4960-A25E-239CB3992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6F4A-0E6C-4A6A-8206-D1D7794FA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EA1A-F7C2-4A3B-B85E-A7E3996D7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84696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E005-9809-46CF-85FE-F6A3623F2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7080" y="384696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B09B-CB3D-4196-8EFB-AB180E406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4696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0326-32DF-484E-92A8-1DA79D81B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9219960" cy="69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4F88-C30C-4DC3-9657-864A5A727A8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pct"/><Relationship Id="rId9" Type="http://schemas.openxmlformats.org/officeDocument/2006/relationships/image" Target="../media/image19.pct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image" Target="../media/image20.pct"/><Relationship Id="rId4" Type="http://schemas.openxmlformats.org/officeDocument/2006/relationships/image" Target="../media/image20.pct"/><Relationship Id="rId5" Type="http://schemas.openxmlformats.org/officeDocument/2006/relationships/image" Target="../media/image20.pct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pct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660760" y="1096920"/>
            <a:ext cx="5997600" cy="3876120"/>
            <a:chOff x="2660760" y="1096920"/>
            <a:chExt cx="5997600" cy="3876120"/>
          </a:xfrm>
        </p:grpSpPr>
        <p:sp>
          <p:nvSpPr>
            <p:cNvPr id="41" name=""/>
            <p:cNvSpPr/>
            <p:nvPr/>
          </p:nvSpPr>
          <p:spPr>
            <a:xfrm>
              <a:off x="2995560" y="1283400"/>
              <a:ext cx="5321520" cy="36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SMB and NFS Protocol Architecture and Administration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660760" y="1096920"/>
              <a:ext cx="5997600" cy="24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7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6600"/>
                  </a:solidFill>
                  <a:latin typeface="Times New Roman"/>
                </a:rPr>
                <a:t>SMB and NFS Protocol Architecture and Administration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 Bradbury, Sales Engineer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eptember 26, 2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0" y="1694880"/>
            <a:ext cx="183996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3D80-4076-4F8A-BDC4-79D0402E24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29880" y="294480"/>
            <a:ext cx="33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NetBIOS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93920" y="1652760"/>
            <a:ext cx="660384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BIOS (Network Basic Input/Output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that establishes names and maintains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d in RFCs 1001/1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well know ports 137, 138, 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BIOS name resolution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host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broad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67520" y="1231920"/>
            <a:ext cx="62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stablishing a NetBIOS session is the firs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to making an SMB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40EE-60DD-43FD-8266-EFC598184A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336120" y="294480"/>
            <a:ext cx="39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SMB Protocol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589120" y="1245960"/>
            <a:ext cx="6554880" cy="53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MBnegprot (Negoti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the first SMB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tiates SMB dialec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 LM 0.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at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returns security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MBsessetup (Session Set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s authent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MBtcon (Tree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to a device - file service, print spooler, 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Bopen, SMBread, SMBwrite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EBF6-82A1-49D8-A833-9D79A689D4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694240" y="2944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SMB Authenticati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356920" y="1468080"/>
            <a:ext cx="6386760" cy="53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User mod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e85e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e85e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e85e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/password is forwarded to 3rd party system (generally NT P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hare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onnect with a common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075A-948D-4B3E-AA9F-16684C0046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774760" y="3280320"/>
            <a:ext cx="2328120" cy="6490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T Authentic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ma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1779480"/>
            <a:ext cx="2444760" cy="755640"/>
          </a:xfrm>
          <a:prstGeom prst="flowChartProcess">
            <a:avLst/>
          </a:prstGeom>
          <a:solidFill>
            <a:srgbClr val="9900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user found Domain A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 logon passed to tru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main B for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3192480"/>
            <a:ext cx="2463840" cy="717480"/>
          </a:xfrm>
          <a:prstGeom prst="flowChartProcess">
            <a:avLst/>
          </a:prstGeom>
          <a:solidFill>
            <a:srgbClr val="cc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MB server sends User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 passwor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uthentic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02360" y="5101200"/>
            <a:ext cx="1965240" cy="649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MB server forw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ponse to the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7360" y="2944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Proxy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3800" y="5537520"/>
            <a:ext cx="2431800" cy="85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50" y="21189"/>
                </a:moveTo>
                <a:arcTo wR="10800" hR="10800" stAng="6350957" swAng="8237766"/>
                <a:lnTo>
                  <a:pt x="10800" y="10800"/>
                </a:lnTo>
                <a:close/>
              </a:path>
              <a:path fill="none" w="21600" h="21600">
                <a:moveTo>
                  <a:pt x="7850" y="21189"/>
                </a:moveTo>
                <a:arcTo wR="10800" hR="10800" stAng="6350957" swAng="823776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428560" y="6013440"/>
            <a:ext cx="1671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55880" y="3722040"/>
            <a:ext cx="243180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50" y="21189"/>
                </a:moveTo>
                <a:arcTo wR="10800" hR="10800" stAng="6350957" swAng="8237766"/>
                <a:lnTo>
                  <a:pt x="10800" y="10800"/>
                </a:lnTo>
                <a:close/>
              </a:path>
              <a:path fill="none" w="21600" h="21600">
                <a:moveTo>
                  <a:pt x="7850" y="21189"/>
                </a:moveTo>
                <a:arcTo wR="10800" hR="10800" stAng="6350957" swAng="823776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3320" y="387684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041720" y="3745440"/>
            <a:ext cx="3346560" cy="850320"/>
            <a:chOff x="4041720" y="3745440"/>
            <a:chExt cx="3346560" cy="850320"/>
          </a:xfrm>
        </p:grpSpPr>
        <p:sp>
          <p:nvSpPr>
            <p:cNvPr id="317" name=""/>
            <p:cNvSpPr/>
            <p:nvPr/>
          </p:nvSpPr>
          <p:spPr>
            <a:xfrm>
              <a:off x="4041720" y="3745440"/>
              <a:ext cx="2431800" cy="85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70" y="1160"/>
                  </a:moveTo>
                  <a:arcTo wR="10800" hR="10800" stAng="-3791917" swAng="8244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70" y="1160"/>
                  </a:moveTo>
                  <a:arcTo wR="10800" hR="10800" stAng="-3791917" swAng="8244408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94720" y="3945240"/>
              <a:ext cx="1393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hent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612960" y="4806720"/>
            <a:ext cx="3524040" cy="11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57" y="10"/>
                </a:moveTo>
                <a:arcTo wR="10800" hR="10800" stAng="-5254378" swAng="8992917"/>
                <a:lnTo>
                  <a:pt x="10800" y="10800"/>
                </a:lnTo>
                <a:close/>
              </a:path>
              <a:path fill="none" w="21600" h="21600">
                <a:moveTo>
                  <a:pt x="11257" y="10"/>
                </a:moveTo>
                <a:arcTo wR="10800" hR="10800" stAng="-5254378" swAng="8992917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96840" y="495792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13440" y="5232240"/>
            <a:ext cx="24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359320" y="6386400"/>
            <a:ext cx="55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58880" y="4867200"/>
            <a:ext cx="132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691240" y="5740560"/>
            <a:ext cx="63648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4745160" y="4521240"/>
          <a:ext cx="477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5160" y="4521240"/>
                    <a:ext cx="477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5357880" y="4076640"/>
            <a:ext cx="0" cy="241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45800" y="6064200"/>
            <a:ext cx="198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(SMB/CIF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126040" y="3146400"/>
            <a:ext cx="701640" cy="1130040"/>
            <a:chOff x="5126040" y="3146400"/>
            <a:chExt cx="701640" cy="1130040"/>
          </a:xfrm>
        </p:grpSpPr>
        <p:graphicFrame>
          <p:nvGraphicFramePr>
            <p:cNvPr id="330" name=""/>
            <p:cNvGraphicFramePr/>
            <p:nvPr/>
          </p:nvGraphicFramePr>
          <p:xfrm>
            <a:off x="5126040" y="3146400"/>
            <a:ext cx="372240" cy="850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26040" y="3146400"/>
                      <a:ext cx="372240" cy="8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2" name="" descr=""/>
            <p:cNvPicPr/>
            <p:nvPr/>
          </p:nvPicPr>
          <p:blipFill>
            <a:blip r:embed="rId6"/>
            <a:stretch/>
          </p:blipFill>
          <p:spPr>
            <a:xfrm>
              <a:off x="5138640" y="3472560"/>
              <a:ext cx="689040" cy="80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/>
          <p:cNvSpPr/>
          <p:nvPr/>
        </p:nvSpPr>
        <p:spPr>
          <a:xfrm>
            <a:off x="7808760" y="2451240"/>
            <a:ext cx="0" cy="5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12000" y="2435400"/>
            <a:ext cx="133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TRUSTED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TRU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60880" y="2484720"/>
            <a:ext cx="2431800" cy="85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50" y="21189"/>
                </a:moveTo>
                <a:arcTo wR="10800" hR="10800" stAng="6350957" swAng="8237766"/>
                <a:lnTo>
                  <a:pt x="10800" y="10800"/>
                </a:lnTo>
                <a:close/>
              </a:path>
              <a:path fill="none" w="21600" h="21600">
                <a:moveTo>
                  <a:pt x="7850" y="21189"/>
                </a:moveTo>
                <a:arcTo wR="10800" hR="10800" stAng="6350957" swAng="823776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014800" y="1706400"/>
            <a:ext cx="701640" cy="1130040"/>
            <a:chOff x="5014800" y="1706400"/>
            <a:chExt cx="701640" cy="1130040"/>
          </a:xfrm>
        </p:grpSpPr>
        <p:graphicFrame>
          <p:nvGraphicFramePr>
            <p:cNvPr id="337" name=""/>
            <p:cNvGraphicFramePr/>
            <p:nvPr/>
          </p:nvGraphicFramePr>
          <p:xfrm>
            <a:off x="5014800" y="1706400"/>
            <a:ext cx="372240" cy="85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14800" y="1706400"/>
                      <a:ext cx="372240" cy="8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5027400" y="2032560"/>
              <a:ext cx="689040" cy="80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4104720" y="2329560"/>
            <a:ext cx="3756960" cy="850320"/>
            <a:chOff x="4104720" y="2329560"/>
            <a:chExt cx="3756960" cy="850320"/>
          </a:xfrm>
        </p:grpSpPr>
        <p:sp>
          <p:nvSpPr>
            <p:cNvPr id="341" name=""/>
            <p:cNvSpPr/>
            <p:nvPr/>
          </p:nvSpPr>
          <p:spPr>
            <a:xfrm>
              <a:off x="4104720" y="2329560"/>
              <a:ext cx="2429640" cy="85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70" y="1160"/>
                  </a:moveTo>
                  <a:arcTo wR="10800" hR="10800" stAng="-3791917" swAng="8244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70" y="1160"/>
                  </a:moveTo>
                  <a:arcTo wR="10800" hR="10800" stAng="-3791917" swAng="8244408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7600" y="2529360"/>
              <a:ext cx="2224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hentication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rom B to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36600" y="1704240"/>
            <a:ext cx="2328120" cy="6490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T Authentic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mai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3905-8D76-4993-BB77-400458FECE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478680" y="51480"/>
            <a:ext cx="36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learCase i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Mixe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496960" y="1316160"/>
            <a:ext cx="664704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Rational’s recommendations for when to use ClearCase in a mixed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and Unix developers work on the sam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developers maintains code base for Unix and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developers work primarily on separate source code but keep VOB on Unix for administrative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0BD2-67BC-4CC9-9128-14F77D048BD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17360" y="51480"/>
            <a:ext cx="502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learCase Capabilities i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Mixed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496960" y="1316160"/>
            <a:ext cx="664704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Unix VOB/View Server available to your 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nix and NT users to access the same V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nix and NT users to access the same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ecure and reliable repository for the common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E4B0-F93A-4391-A275-A28A033515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943000" y="51480"/>
            <a:ext cx="47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Interoperability Sol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for Clear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05160" y="1469160"/>
            <a:ext cx="67388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Rational certified solutions for ClearCase Inte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85e00"/>
              </a:buClr>
              <a:buFont typeface="Symbol" charset="2"/>
              <a:buChar char="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TotalNET Advance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85e00"/>
              </a:buClr>
              <a:buFont typeface="Symbol" charset="2"/>
              <a:buChar char="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-N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graph Disk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mingbird NFS Maest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Windows NT Services for UNIX Client for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FS Products (SF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85e00"/>
              </a:buClr>
              <a:buFont typeface="Symbol" charset="2"/>
              <a:buChar char="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ttached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upported in an interop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C630-D38F-4527-86EF-DB56801B3C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V="1">
            <a:off x="7597800" y="419256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98960" y="4424400"/>
            <a:ext cx="3727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548160" y="418896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159000" y="2909880"/>
          <a:ext cx="80352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9000" y="2909880"/>
                    <a:ext cx="8035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678040" y="4424400"/>
            <a:ext cx="561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09520" y="2127240"/>
            <a:ext cx="17168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 Ser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OB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960720" y="4403880"/>
            <a:ext cx="1052280" cy="1321560"/>
            <a:chOff x="3960720" y="4403880"/>
            <a:chExt cx="1052280" cy="1321560"/>
          </a:xfrm>
        </p:grpSpPr>
        <p:pic>
          <p:nvPicPr>
            <p:cNvPr id="366" name="" descr=""/>
            <p:cNvPicPr/>
            <p:nvPr/>
          </p:nvPicPr>
          <p:blipFill>
            <a:blip r:embed="rId3"/>
            <a:stretch/>
          </p:blipFill>
          <p:spPr>
            <a:xfrm>
              <a:off x="4495320" y="4647600"/>
              <a:ext cx="517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499640" y="44038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3960720" y="4647600"/>
              <a:ext cx="517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338000" y="5389560"/>
              <a:ext cx="45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5"/>
            <a:stretch/>
          </p:blipFill>
          <p:spPr>
            <a:xfrm>
              <a:off x="4236840" y="4576320"/>
              <a:ext cx="51768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"/>
          <p:cNvGrpSpPr/>
          <p:nvPr/>
        </p:nvGrpSpPr>
        <p:grpSpPr>
          <a:xfrm>
            <a:off x="4229280" y="2960640"/>
            <a:ext cx="1068120" cy="788760"/>
            <a:chOff x="4229280" y="2960640"/>
            <a:chExt cx="1068120" cy="788760"/>
          </a:xfrm>
        </p:grpSpPr>
        <p:sp>
          <p:nvSpPr>
            <p:cNvPr id="372" name=""/>
            <p:cNvSpPr/>
            <p:nvPr/>
          </p:nvSpPr>
          <p:spPr>
            <a:xfrm>
              <a:off x="4229280" y="3016440"/>
              <a:ext cx="1068120" cy="659520"/>
            </a:xfrm>
            <a:prstGeom prst="rect">
              <a:avLst/>
            </a:prstGeom>
            <a:gradFill rotWithShape="0">
              <a:gsLst>
                <a:gs pos="0">
                  <a:srgbClr val="af0066"/>
                </a:gs>
                <a:gs pos="50000">
                  <a:srgbClr val="dc0081"/>
                </a:gs>
                <a:gs pos="100000">
                  <a:srgbClr val="af00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4680" y="3625560"/>
              <a:ext cx="1059840" cy="123840"/>
            </a:xfrm>
            <a:prstGeom prst="ellipse">
              <a:avLst/>
            </a:prstGeom>
            <a:gradFill rotWithShape="0">
              <a:gsLst>
                <a:gs pos="0">
                  <a:srgbClr val="af0066"/>
                </a:gs>
                <a:gs pos="50000">
                  <a:srgbClr val="dc0081"/>
                </a:gs>
                <a:gs pos="100000">
                  <a:srgbClr val="af00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34680" y="2960640"/>
              <a:ext cx="1059840" cy="123840"/>
            </a:xfrm>
            <a:prstGeom prst="ellipse">
              <a:avLst/>
            </a:prstGeom>
            <a:gradFill rotWithShape="0">
              <a:gsLst>
                <a:gs pos="0">
                  <a:srgbClr val="af0066"/>
                </a:gs>
                <a:gs pos="50000">
                  <a:srgbClr val="dc0081"/>
                </a:gs>
                <a:gs pos="100000">
                  <a:srgbClr val="af00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443480" y="3135600"/>
              <a:ext cx="208800" cy="424800"/>
              <a:chOff x="4443480" y="3135600"/>
              <a:chExt cx="208800" cy="424800"/>
            </a:xfrm>
          </p:grpSpPr>
          <p:sp>
            <p:nvSpPr>
              <p:cNvPr id="376" name=""/>
              <p:cNvSpPr/>
              <p:nvPr/>
            </p:nvSpPr>
            <p:spPr>
              <a:xfrm>
                <a:off x="4455360" y="3312720"/>
                <a:ext cx="18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66520" y="3391920"/>
                <a:ext cx="813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63640" y="3462480"/>
                <a:ext cx="7884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33920" y="3314160"/>
                <a:ext cx="0" cy="15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46800" y="3159720"/>
                <a:ext cx="0" cy="37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61120" y="3312720"/>
                <a:ext cx="0" cy="15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29160" y="3293640"/>
                <a:ext cx="35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29160" y="3369960"/>
                <a:ext cx="35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29160" y="3449160"/>
                <a:ext cx="3528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43480" y="3372480"/>
                <a:ext cx="35280" cy="27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43480" y="3446280"/>
                <a:ext cx="35280" cy="27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16280" y="3449160"/>
                <a:ext cx="36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16280" y="3293640"/>
                <a:ext cx="3528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16280" y="3372480"/>
                <a:ext cx="35280" cy="27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529160" y="3211920"/>
                <a:ext cx="35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529160" y="3135600"/>
                <a:ext cx="35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29160" y="3533400"/>
                <a:ext cx="356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43480" y="3299040"/>
                <a:ext cx="3600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4853520" y="3105720"/>
              <a:ext cx="255960" cy="171360"/>
            </a:xfrm>
            <a:prstGeom prst="cube">
              <a:avLst>
                <a:gd name="adj" fmla="val 24995"/>
              </a:avLst>
            </a:prstGeom>
            <a:solidFill>
              <a:srgbClr val="0083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829040" y="3367440"/>
              <a:ext cx="266760" cy="239760"/>
              <a:chOff x="4829040" y="3367440"/>
              <a:chExt cx="266760" cy="239760"/>
            </a:xfrm>
          </p:grpSpPr>
          <p:sp>
            <p:nvSpPr>
              <p:cNvPr id="396" name=""/>
              <p:cNvSpPr/>
              <p:nvPr/>
            </p:nvSpPr>
            <p:spPr>
              <a:xfrm>
                <a:off x="4829040" y="3367440"/>
                <a:ext cx="266760" cy="239760"/>
              </a:xfrm>
              <a:prstGeom prst="parallelogram">
                <a:avLst>
                  <a:gd name="adj" fmla="val 27810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24080" y="3424320"/>
                <a:ext cx="130680" cy="0"/>
              </a:xfrm>
              <a:prstGeom prst="line">
                <a:avLst/>
              </a:prstGeom>
              <a:ln w="50760">
                <a:solidFill>
                  <a:srgbClr val="0083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916160" y="3459960"/>
                <a:ext cx="122400" cy="0"/>
              </a:xfrm>
              <a:prstGeom prst="line">
                <a:avLst/>
              </a:prstGeom>
              <a:ln w="50760">
                <a:solidFill>
                  <a:srgbClr val="0083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54320" y="3492720"/>
                <a:ext cx="76320" cy="0"/>
              </a:xfrm>
              <a:prstGeom prst="line">
                <a:avLst/>
              </a:prstGeom>
              <a:ln w="50760">
                <a:solidFill>
                  <a:srgbClr val="0083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91680" y="3530880"/>
                <a:ext cx="100440" cy="0"/>
              </a:xfrm>
              <a:prstGeom prst="line">
                <a:avLst/>
              </a:prstGeom>
              <a:ln w="50760">
                <a:solidFill>
                  <a:srgbClr val="0083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78000" y="3569040"/>
                <a:ext cx="125280" cy="0"/>
              </a:xfrm>
              <a:prstGeom prst="line">
                <a:avLst/>
              </a:prstGeom>
              <a:ln w="50760">
                <a:solidFill>
                  <a:srgbClr val="0083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4495680" y="2735280"/>
            <a:ext cx="696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VO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36880" y="3767040"/>
            <a:ext cx="844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4880" y="376560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51560" y="5202360"/>
            <a:ext cx="1336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582160" y="4578480"/>
            <a:ext cx="2019960" cy="1143720"/>
            <a:chOff x="5582160" y="4578480"/>
            <a:chExt cx="2019960" cy="1143720"/>
          </a:xfrm>
        </p:grpSpPr>
        <p:grpSp>
          <p:nvGrpSpPr>
            <p:cNvPr id="407" name=""/>
            <p:cNvGrpSpPr/>
            <p:nvPr/>
          </p:nvGrpSpPr>
          <p:grpSpPr>
            <a:xfrm>
              <a:off x="6333840" y="4578480"/>
              <a:ext cx="399600" cy="430920"/>
              <a:chOff x="6333840" y="4578480"/>
              <a:chExt cx="399600" cy="430920"/>
            </a:xfrm>
          </p:grpSpPr>
          <p:sp>
            <p:nvSpPr>
              <p:cNvPr id="408" name=""/>
              <p:cNvSpPr/>
              <p:nvPr/>
            </p:nvSpPr>
            <p:spPr>
              <a:xfrm>
                <a:off x="6411960" y="4618440"/>
                <a:ext cx="251640" cy="244800"/>
              </a:xfrm>
              <a:custGeom>
                <a:avLst/>
                <a:gdLst/>
                <a:ahLst/>
                <a:rect l="l" t="t" r="r" b="b"/>
                <a:pathLst>
                  <a:path w="226" h="220">
                    <a:moveTo>
                      <a:pt x="14" y="219"/>
                    </a:moveTo>
                    <a:lnTo>
                      <a:pt x="6" y="219"/>
                    </a:lnTo>
                    <a:lnTo>
                      <a:pt x="3" y="214"/>
                    </a:lnTo>
                    <a:lnTo>
                      <a:pt x="2" y="214"/>
                    </a:lnTo>
                    <a:lnTo>
                      <a:pt x="2" y="213"/>
                    </a:lnTo>
                    <a:lnTo>
                      <a:pt x="1" y="213"/>
                    </a:lnTo>
                    <a:lnTo>
                      <a:pt x="1" y="210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11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18" y="2"/>
                    </a:lnTo>
                    <a:lnTo>
                      <a:pt x="220" y="2"/>
                    </a:lnTo>
                    <a:lnTo>
                      <a:pt x="221" y="4"/>
                    </a:lnTo>
                    <a:lnTo>
                      <a:pt x="222" y="4"/>
                    </a:lnTo>
                    <a:lnTo>
                      <a:pt x="222" y="5"/>
                    </a:lnTo>
                    <a:lnTo>
                      <a:pt x="223" y="6"/>
                    </a:lnTo>
                    <a:lnTo>
                      <a:pt x="223" y="7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5" y="11"/>
                    </a:lnTo>
                    <a:lnTo>
                      <a:pt x="225" y="205"/>
                    </a:lnTo>
                    <a:lnTo>
                      <a:pt x="224" y="206"/>
                    </a:lnTo>
                    <a:lnTo>
                      <a:pt x="224" y="208"/>
                    </a:lnTo>
                    <a:lnTo>
                      <a:pt x="223" y="210"/>
                    </a:lnTo>
                    <a:lnTo>
                      <a:pt x="223" y="210"/>
                    </a:lnTo>
                    <a:lnTo>
                      <a:pt x="222" y="212"/>
                    </a:lnTo>
                    <a:lnTo>
                      <a:pt x="222" y="213"/>
                    </a:lnTo>
                    <a:lnTo>
                      <a:pt x="219" y="216"/>
                    </a:lnTo>
                    <a:lnTo>
                      <a:pt x="218" y="216"/>
                    </a:lnTo>
                    <a:lnTo>
                      <a:pt x="218" y="217"/>
                    </a:lnTo>
                    <a:lnTo>
                      <a:pt x="217" y="217"/>
                    </a:lnTo>
                    <a:lnTo>
                      <a:pt x="216" y="219"/>
                    </a:lnTo>
                    <a:lnTo>
                      <a:pt x="210" y="219"/>
                    </a:lnTo>
                    <a:lnTo>
                      <a:pt x="211" y="219"/>
                    </a:lnTo>
                    <a:lnTo>
                      <a:pt x="12" y="219"/>
                    </a:lnTo>
                    <a:lnTo>
                      <a:pt x="14" y="2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99360" y="4606200"/>
                <a:ext cx="277560" cy="264960"/>
              </a:xfrm>
              <a:custGeom>
                <a:avLst/>
                <a:gdLst/>
                <a:ahLst/>
                <a:rect l="l" t="t" r="r" b="b"/>
                <a:pathLst>
                  <a:path w="249" h="238">
                    <a:moveTo>
                      <a:pt x="12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226"/>
                    </a:lnTo>
                    <a:lnTo>
                      <a:pt x="0" y="227"/>
                    </a:lnTo>
                    <a:lnTo>
                      <a:pt x="0" y="228"/>
                    </a:lnTo>
                    <a:lnTo>
                      <a:pt x="1" y="229"/>
                    </a:lnTo>
                    <a:lnTo>
                      <a:pt x="1" y="230"/>
                    </a:lnTo>
                    <a:lnTo>
                      <a:pt x="2" y="232"/>
                    </a:lnTo>
                    <a:lnTo>
                      <a:pt x="2" y="232"/>
                    </a:lnTo>
                    <a:lnTo>
                      <a:pt x="2" y="232"/>
                    </a:lnTo>
                    <a:lnTo>
                      <a:pt x="4" y="234"/>
                    </a:lnTo>
                    <a:lnTo>
                      <a:pt x="4" y="234"/>
                    </a:lnTo>
                    <a:lnTo>
                      <a:pt x="5" y="236"/>
                    </a:lnTo>
                    <a:lnTo>
                      <a:pt x="7" y="236"/>
                    </a:lnTo>
                    <a:lnTo>
                      <a:pt x="8" y="237"/>
                    </a:lnTo>
                    <a:lnTo>
                      <a:pt x="12" y="237"/>
                    </a:lnTo>
                    <a:lnTo>
                      <a:pt x="11" y="237"/>
                    </a:lnTo>
                    <a:lnTo>
                      <a:pt x="239" y="237"/>
                    </a:lnTo>
                    <a:lnTo>
                      <a:pt x="240" y="236"/>
                    </a:lnTo>
                    <a:lnTo>
                      <a:pt x="241" y="236"/>
                    </a:lnTo>
                    <a:lnTo>
                      <a:pt x="241" y="234"/>
                    </a:lnTo>
                    <a:lnTo>
                      <a:pt x="243" y="234"/>
                    </a:lnTo>
                    <a:lnTo>
                      <a:pt x="245" y="230"/>
                    </a:lnTo>
                    <a:lnTo>
                      <a:pt x="245" y="229"/>
                    </a:lnTo>
                    <a:lnTo>
                      <a:pt x="246" y="228"/>
                    </a:lnTo>
                    <a:lnTo>
                      <a:pt x="246" y="227"/>
                    </a:lnTo>
                    <a:lnTo>
                      <a:pt x="247" y="226"/>
                    </a:lnTo>
                    <a:lnTo>
                      <a:pt x="247" y="225"/>
                    </a:lnTo>
                    <a:lnTo>
                      <a:pt x="248" y="224"/>
                    </a:lnTo>
                    <a:lnTo>
                      <a:pt x="248" y="12"/>
                    </a:lnTo>
                    <a:lnTo>
                      <a:pt x="247" y="11"/>
                    </a:lnTo>
                    <a:lnTo>
                      <a:pt x="247" y="8"/>
                    </a:lnTo>
                    <a:lnTo>
                      <a:pt x="246" y="8"/>
                    </a:lnTo>
                    <a:lnTo>
                      <a:pt x="246" y="7"/>
                    </a:lnTo>
                    <a:lnTo>
                      <a:pt x="245" y="6"/>
                    </a:lnTo>
                    <a:lnTo>
                      <a:pt x="245" y="4"/>
                    </a:lnTo>
                    <a:lnTo>
                      <a:pt x="244" y="2"/>
                    </a:lnTo>
                    <a:lnTo>
                      <a:pt x="243" y="2"/>
                    </a:lnTo>
                    <a:lnTo>
                      <a:pt x="243" y="2"/>
                    </a:lnTo>
                    <a:lnTo>
                      <a:pt x="242" y="2"/>
                    </a:lnTo>
                    <a:lnTo>
                      <a:pt x="241" y="0"/>
                    </a:lnTo>
                    <a:lnTo>
                      <a:pt x="238" y="0"/>
                    </a:lnTo>
                    <a:lnTo>
                      <a:pt x="238" y="0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33280" y="4578480"/>
                <a:ext cx="168120" cy="344160"/>
              </a:xfrm>
              <a:custGeom>
                <a:avLst/>
                <a:gdLst/>
                <a:ahLst/>
                <a:rect l="l" t="t" r="r" b="b"/>
                <a:pathLst>
                  <a:path w="151" h="309">
                    <a:moveTo>
                      <a:pt x="0" y="0"/>
                    </a:moveTo>
                    <a:lnTo>
                      <a:pt x="141" y="0"/>
                    </a:lnTo>
                    <a:lnTo>
                      <a:pt x="145" y="6"/>
                    </a:lnTo>
                    <a:lnTo>
                      <a:pt x="150" y="282"/>
                    </a:lnTo>
                    <a:lnTo>
                      <a:pt x="145" y="295"/>
                    </a:lnTo>
                    <a:lnTo>
                      <a:pt x="132" y="308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532920" y="4891320"/>
                <a:ext cx="16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72720" y="4578480"/>
                <a:ext cx="167400" cy="344160"/>
              </a:xfrm>
              <a:custGeom>
                <a:avLst/>
                <a:gdLst/>
                <a:ahLst/>
                <a:rect l="l" t="t" r="r" b="b"/>
                <a:pathLst>
                  <a:path w="150" h="309">
                    <a:moveTo>
                      <a:pt x="149" y="0"/>
                    </a:moveTo>
                    <a:lnTo>
                      <a:pt x="8" y="0"/>
                    </a:lnTo>
                    <a:lnTo>
                      <a:pt x="4" y="6"/>
                    </a:lnTo>
                    <a:lnTo>
                      <a:pt x="0" y="282"/>
                    </a:lnTo>
                    <a:lnTo>
                      <a:pt x="4" y="295"/>
                    </a:lnTo>
                    <a:lnTo>
                      <a:pt x="17" y="308"/>
                    </a:lnTo>
                    <a:lnTo>
                      <a:pt x="149" y="30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72720" y="4891320"/>
                <a:ext cx="16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6280" y="4921200"/>
                <a:ext cx="648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23120" y="4942440"/>
                <a:ext cx="1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6433920" y="4921200"/>
                <a:ext cx="648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22560" y="4921200"/>
                <a:ext cx="648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29400" y="4942440"/>
                <a:ext cx="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638040" y="4921200"/>
                <a:ext cx="756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8440" y="4628160"/>
                <a:ext cx="235440" cy="222480"/>
              </a:xfrm>
              <a:custGeom>
                <a:avLst/>
                <a:gdLst/>
                <a:ahLst/>
                <a:rect l="l" t="t" r="r" b="b"/>
                <a:pathLst>
                  <a:path w="211" h="200">
                    <a:moveTo>
                      <a:pt x="0" y="14"/>
                    </a:moveTo>
                    <a:lnTo>
                      <a:pt x="0" y="185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1" y="189"/>
                    </a:lnTo>
                    <a:lnTo>
                      <a:pt x="1" y="191"/>
                    </a:lnTo>
                    <a:lnTo>
                      <a:pt x="5" y="196"/>
                    </a:lnTo>
                    <a:lnTo>
                      <a:pt x="6" y="196"/>
                    </a:lnTo>
                    <a:lnTo>
                      <a:pt x="6" y="197"/>
                    </a:lnTo>
                    <a:lnTo>
                      <a:pt x="8" y="197"/>
                    </a:lnTo>
                    <a:lnTo>
                      <a:pt x="8" y="199"/>
                    </a:lnTo>
                    <a:lnTo>
                      <a:pt x="200" y="199"/>
                    </a:lnTo>
                    <a:lnTo>
                      <a:pt x="201" y="197"/>
                    </a:lnTo>
                    <a:lnTo>
                      <a:pt x="203" y="197"/>
                    </a:lnTo>
                    <a:lnTo>
                      <a:pt x="203" y="196"/>
                    </a:lnTo>
                    <a:lnTo>
                      <a:pt x="204" y="196"/>
                    </a:lnTo>
                    <a:lnTo>
                      <a:pt x="204" y="195"/>
                    </a:lnTo>
                    <a:lnTo>
                      <a:pt x="205" y="193"/>
                    </a:lnTo>
                    <a:lnTo>
                      <a:pt x="206" y="193"/>
                    </a:lnTo>
                    <a:lnTo>
                      <a:pt x="207" y="193"/>
                    </a:lnTo>
                    <a:lnTo>
                      <a:pt x="207" y="191"/>
                    </a:lnTo>
                    <a:lnTo>
                      <a:pt x="209" y="189"/>
                    </a:lnTo>
                    <a:lnTo>
                      <a:pt x="209" y="187"/>
                    </a:lnTo>
                    <a:lnTo>
                      <a:pt x="210" y="187"/>
                    </a:lnTo>
                    <a:lnTo>
                      <a:pt x="210" y="10"/>
                    </a:lnTo>
                    <a:lnTo>
                      <a:pt x="209" y="10"/>
                    </a:lnTo>
                    <a:lnTo>
                      <a:pt x="209" y="8"/>
                    </a:lnTo>
                    <a:lnTo>
                      <a:pt x="208" y="8"/>
                    </a:lnTo>
                    <a:lnTo>
                      <a:pt x="208" y="6"/>
                    </a:lnTo>
                    <a:lnTo>
                      <a:pt x="207" y="6"/>
                    </a:lnTo>
                    <a:lnTo>
                      <a:pt x="207" y="5"/>
                    </a:lnTo>
                    <a:lnTo>
                      <a:pt x="205" y="3"/>
                    </a:lnTo>
                    <a:lnTo>
                      <a:pt x="204" y="3"/>
                    </a:lnTo>
                    <a:lnTo>
                      <a:pt x="204" y="2"/>
                    </a:lnTo>
                    <a:lnTo>
                      <a:pt x="203" y="2"/>
                    </a:lnTo>
                    <a:lnTo>
                      <a:pt x="202" y="1"/>
                    </a:lnTo>
                    <a:lnTo>
                      <a:pt x="198" y="1"/>
                    </a:lnTo>
                    <a:lnTo>
                      <a:pt x="197" y="0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34560" y="4944600"/>
                <a:ext cx="21240" cy="3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0" y="9574"/>
                    </a:moveTo>
                    <a:arcTo wR="10800" hR="10800" stAng="-10408812" swAng="46756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0" y="9574"/>
                    </a:moveTo>
                    <a:arcTo wR="10800" hR="10800" stAng="-10408812" swAng="467563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12200" y="4943520"/>
                <a:ext cx="21240" cy="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55" y="51"/>
                    </a:moveTo>
                    <a:arcTo wR="10800" hR="10800" stAng="-5733179" swAng="52989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55" y="51"/>
                    </a:moveTo>
                    <a:arcTo wR="10800" hR="10800" stAng="-5733179" swAng="529896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6333840" y="4942440"/>
                <a:ext cx="399240" cy="66960"/>
                <a:chOff x="6333840" y="4942440"/>
                <a:chExt cx="399240" cy="669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334560" y="4992480"/>
                  <a:ext cx="2124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711120" y="4992480"/>
                  <a:ext cx="2124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6344640" y="4942440"/>
                  <a:ext cx="378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6333840" y="4948920"/>
                  <a:ext cx="0" cy="5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344640" y="5009040"/>
                  <a:ext cx="378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733080" y="4948920"/>
                  <a:ext cx="0" cy="5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6380280" y="4958280"/>
                <a:ext cx="323280" cy="3204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580080" y="4815000"/>
              <a:ext cx="399240" cy="430920"/>
              <a:chOff x="6580080" y="4815000"/>
              <a:chExt cx="399240" cy="430920"/>
            </a:xfrm>
          </p:grpSpPr>
          <p:sp>
            <p:nvSpPr>
              <p:cNvPr id="432" name=""/>
              <p:cNvSpPr/>
              <p:nvPr/>
            </p:nvSpPr>
            <p:spPr>
              <a:xfrm>
                <a:off x="6625800" y="4828320"/>
                <a:ext cx="311760" cy="32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6580080" y="4815000"/>
                <a:ext cx="399240" cy="430920"/>
                <a:chOff x="6580080" y="4815000"/>
                <a:chExt cx="399240" cy="4309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657840" y="4854960"/>
                  <a:ext cx="251640" cy="244800"/>
                </a:xfrm>
                <a:custGeom>
                  <a:avLst/>
                  <a:gdLst/>
                  <a:ahLst/>
                  <a:rect l="l" t="t" r="r" b="b"/>
                  <a:pathLst>
                    <a:path w="226" h="220">
                      <a:moveTo>
                        <a:pt x="14" y="219"/>
                      </a:moveTo>
                      <a:lnTo>
                        <a:pt x="6" y="219"/>
                      </a:lnTo>
                      <a:lnTo>
                        <a:pt x="3" y="214"/>
                      </a:lnTo>
                      <a:lnTo>
                        <a:pt x="2" y="214"/>
                      </a:lnTo>
                      <a:lnTo>
                        <a:pt x="2" y="213"/>
                      </a:lnTo>
                      <a:lnTo>
                        <a:pt x="1" y="213"/>
                      </a:lnTo>
                      <a:lnTo>
                        <a:pt x="1" y="210"/>
                      </a:lnTo>
                      <a:lnTo>
                        <a:pt x="0" y="210"/>
                      </a:lnTo>
                      <a:lnTo>
                        <a:pt x="0" y="208"/>
                      </a:lnTo>
                      <a:lnTo>
                        <a:pt x="0" y="206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211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17" y="0"/>
                      </a:lnTo>
                      <a:lnTo>
                        <a:pt x="218" y="0"/>
                      </a:lnTo>
                      <a:lnTo>
                        <a:pt x="218" y="2"/>
                      </a:lnTo>
                      <a:lnTo>
                        <a:pt x="220" y="2"/>
                      </a:lnTo>
                      <a:lnTo>
                        <a:pt x="221" y="4"/>
                      </a:lnTo>
                      <a:lnTo>
                        <a:pt x="222" y="4"/>
                      </a:lnTo>
                      <a:lnTo>
                        <a:pt x="222" y="5"/>
                      </a:lnTo>
                      <a:lnTo>
                        <a:pt x="223" y="6"/>
                      </a:lnTo>
                      <a:lnTo>
                        <a:pt x="223" y="7"/>
                      </a:lnTo>
                      <a:lnTo>
                        <a:pt x="224" y="7"/>
                      </a:lnTo>
                      <a:lnTo>
                        <a:pt x="224" y="10"/>
                      </a:lnTo>
                      <a:lnTo>
                        <a:pt x="225" y="11"/>
                      </a:lnTo>
                      <a:lnTo>
                        <a:pt x="225" y="205"/>
                      </a:lnTo>
                      <a:lnTo>
                        <a:pt x="224" y="206"/>
                      </a:lnTo>
                      <a:lnTo>
                        <a:pt x="224" y="208"/>
                      </a:lnTo>
                      <a:lnTo>
                        <a:pt x="223" y="210"/>
                      </a:lnTo>
                      <a:lnTo>
                        <a:pt x="223" y="210"/>
                      </a:lnTo>
                      <a:lnTo>
                        <a:pt x="222" y="212"/>
                      </a:lnTo>
                      <a:lnTo>
                        <a:pt x="222" y="213"/>
                      </a:lnTo>
                      <a:lnTo>
                        <a:pt x="219" y="216"/>
                      </a:lnTo>
                      <a:lnTo>
                        <a:pt x="218" y="216"/>
                      </a:lnTo>
                      <a:lnTo>
                        <a:pt x="218" y="217"/>
                      </a:lnTo>
                      <a:lnTo>
                        <a:pt x="217" y="217"/>
                      </a:lnTo>
                      <a:lnTo>
                        <a:pt x="216" y="219"/>
                      </a:lnTo>
                      <a:lnTo>
                        <a:pt x="210" y="219"/>
                      </a:lnTo>
                      <a:lnTo>
                        <a:pt x="211" y="219"/>
                      </a:lnTo>
                      <a:lnTo>
                        <a:pt x="12" y="219"/>
                      </a:lnTo>
                      <a:lnTo>
                        <a:pt x="14" y="2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45600" y="4842720"/>
                  <a:ext cx="277200" cy="264960"/>
                </a:xfrm>
                <a:custGeom>
                  <a:avLst/>
                  <a:gdLst/>
                  <a:ahLst/>
                  <a:rect l="l" t="t" r="r" b="b"/>
                  <a:pathLst>
                    <a:path w="249" h="238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226"/>
                      </a:lnTo>
                      <a:lnTo>
                        <a:pt x="0" y="227"/>
                      </a:lnTo>
                      <a:lnTo>
                        <a:pt x="0" y="228"/>
                      </a:lnTo>
                      <a:lnTo>
                        <a:pt x="1" y="229"/>
                      </a:lnTo>
                      <a:lnTo>
                        <a:pt x="1" y="230"/>
                      </a:lnTo>
                      <a:lnTo>
                        <a:pt x="2" y="232"/>
                      </a:lnTo>
                      <a:lnTo>
                        <a:pt x="2" y="232"/>
                      </a:lnTo>
                      <a:lnTo>
                        <a:pt x="2" y="232"/>
                      </a:lnTo>
                      <a:lnTo>
                        <a:pt x="4" y="234"/>
                      </a:lnTo>
                      <a:lnTo>
                        <a:pt x="4" y="234"/>
                      </a:lnTo>
                      <a:lnTo>
                        <a:pt x="5" y="236"/>
                      </a:lnTo>
                      <a:lnTo>
                        <a:pt x="7" y="236"/>
                      </a:lnTo>
                      <a:lnTo>
                        <a:pt x="8" y="237"/>
                      </a:lnTo>
                      <a:lnTo>
                        <a:pt x="12" y="237"/>
                      </a:lnTo>
                      <a:lnTo>
                        <a:pt x="11" y="237"/>
                      </a:lnTo>
                      <a:lnTo>
                        <a:pt x="239" y="237"/>
                      </a:lnTo>
                      <a:lnTo>
                        <a:pt x="240" y="236"/>
                      </a:lnTo>
                      <a:lnTo>
                        <a:pt x="241" y="236"/>
                      </a:lnTo>
                      <a:lnTo>
                        <a:pt x="241" y="234"/>
                      </a:lnTo>
                      <a:lnTo>
                        <a:pt x="243" y="234"/>
                      </a:lnTo>
                      <a:lnTo>
                        <a:pt x="245" y="230"/>
                      </a:lnTo>
                      <a:lnTo>
                        <a:pt x="245" y="229"/>
                      </a:lnTo>
                      <a:lnTo>
                        <a:pt x="246" y="228"/>
                      </a:lnTo>
                      <a:lnTo>
                        <a:pt x="246" y="227"/>
                      </a:lnTo>
                      <a:lnTo>
                        <a:pt x="247" y="226"/>
                      </a:lnTo>
                      <a:lnTo>
                        <a:pt x="247" y="225"/>
                      </a:lnTo>
                      <a:lnTo>
                        <a:pt x="248" y="224"/>
                      </a:lnTo>
                      <a:lnTo>
                        <a:pt x="248" y="12"/>
                      </a:lnTo>
                      <a:lnTo>
                        <a:pt x="247" y="11"/>
                      </a:lnTo>
                      <a:lnTo>
                        <a:pt x="247" y="8"/>
                      </a:lnTo>
                      <a:lnTo>
                        <a:pt x="246" y="8"/>
                      </a:lnTo>
                      <a:lnTo>
                        <a:pt x="246" y="7"/>
                      </a:lnTo>
                      <a:lnTo>
                        <a:pt x="245" y="6"/>
                      </a:lnTo>
                      <a:lnTo>
                        <a:pt x="245" y="4"/>
                      </a:lnTo>
                      <a:lnTo>
                        <a:pt x="244" y="2"/>
                      </a:lnTo>
                      <a:lnTo>
                        <a:pt x="243" y="2"/>
                      </a:lnTo>
                      <a:lnTo>
                        <a:pt x="243" y="2"/>
                      </a:lnTo>
                      <a:lnTo>
                        <a:pt x="242" y="2"/>
                      </a:lnTo>
                      <a:lnTo>
                        <a:pt x="241" y="0"/>
                      </a:lnTo>
                      <a:lnTo>
                        <a:pt x="238" y="0"/>
                      </a:lnTo>
                      <a:lnTo>
                        <a:pt x="238" y="0"/>
                      </a:lnTo>
                      <a:lnTo>
                        <a:pt x="11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779160" y="4815000"/>
                  <a:ext cx="168120" cy="343800"/>
                </a:xfrm>
                <a:custGeom>
                  <a:avLst/>
                  <a:gdLst/>
                  <a:ahLst/>
                  <a:rect l="l" t="t" r="r" b="b"/>
                  <a:pathLst>
                    <a:path w="151" h="309">
                      <a:moveTo>
                        <a:pt x="0" y="0"/>
                      </a:moveTo>
                      <a:lnTo>
                        <a:pt x="141" y="0"/>
                      </a:lnTo>
                      <a:lnTo>
                        <a:pt x="145" y="6"/>
                      </a:lnTo>
                      <a:lnTo>
                        <a:pt x="150" y="282"/>
                      </a:lnTo>
                      <a:lnTo>
                        <a:pt x="145" y="295"/>
                      </a:lnTo>
                      <a:lnTo>
                        <a:pt x="132" y="308"/>
                      </a:lnTo>
                      <a:lnTo>
                        <a:pt x="0" y="30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6779160" y="5127840"/>
                  <a:ext cx="167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618960" y="4815000"/>
                  <a:ext cx="167040" cy="343800"/>
                </a:xfrm>
                <a:custGeom>
                  <a:avLst/>
                  <a:gdLst/>
                  <a:ahLst/>
                  <a:rect l="l" t="t" r="r" b="b"/>
                  <a:pathLst>
                    <a:path w="150" h="309">
                      <a:moveTo>
                        <a:pt x="149" y="0"/>
                      </a:moveTo>
                      <a:lnTo>
                        <a:pt x="8" y="0"/>
                      </a:lnTo>
                      <a:lnTo>
                        <a:pt x="4" y="6"/>
                      </a:lnTo>
                      <a:lnTo>
                        <a:pt x="0" y="282"/>
                      </a:lnTo>
                      <a:lnTo>
                        <a:pt x="4" y="295"/>
                      </a:lnTo>
                      <a:lnTo>
                        <a:pt x="17" y="308"/>
                      </a:lnTo>
                      <a:lnTo>
                        <a:pt x="149" y="30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618960" y="5127840"/>
                  <a:ext cx="16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662160" y="5157720"/>
                  <a:ext cx="648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669000" y="5178960"/>
                  <a:ext cx="10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6680160" y="5157720"/>
                  <a:ext cx="648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868440" y="5157720"/>
                  <a:ext cx="648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875280" y="5178960"/>
                  <a:ext cx="8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6884280" y="5157720"/>
                  <a:ext cx="756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64680" y="4864680"/>
                  <a:ext cx="235080" cy="222480"/>
                </a:xfrm>
                <a:custGeom>
                  <a:avLst/>
                  <a:gdLst/>
                  <a:ahLst/>
                  <a:rect l="l" t="t" r="r" b="b"/>
                  <a:pathLst>
                    <a:path w="211" h="200">
                      <a:moveTo>
                        <a:pt x="0" y="14"/>
                      </a:moveTo>
                      <a:lnTo>
                        <a:pt x="0" y="185"/>
                      </a:lnTo>
                      <a:lnTo>
                        <a:pt x="0" y="186"/>
                      </a:lnTo>
                      <a:lnTo>
                        <a:pt x="0" y="188"/>
                      </a:lnTo>
                      <a:lnTo>
                        <a:pt x="1" y="189"/>
                      </a:lnTo>
                      <a:lnTo>
                        <a:pt x="1" y="191"/>
                      </a:lnTo>
                      <a:lnTo>
                        <a:pt x="5" y="196"/>
                      </a:lnTo>
                      <a:lnTo>
                        <a:pt x="6" y="196"/>
                      </a:lnTo>
                      <a:lnTo>
                        <a:pt x="6" y="197"/>
                      </a:lnTo>
                      <a:lnTo>
                        <a:pt x="8" y="197"/>
                      </a:lnTo>
                      <a:lnTo>
                        <a:pt x="8" y="199"/>
                      </a:lnTo>
                      <a:lnTo>
                        <a:pt x="200" y="199"/>
                      </a:lnTo>
                      <a:lnTo>
                        <a:pt x="201" y="197"/>
                      </a:lnTo>
                      <a:lnTo>
                        <a:pt x="203" y="197"/>
                      </a:lnTo>
                      <a:lnTo>
                        <a:pt x="203" y="196"/>
                      </a:lnTo>
                      <a:lnTo>
                        <a:pt x="204" y="196"/>
                      </a:lnTo>
                      <a:lnTo>
                        <a:pt x="204" y="195"/>
                      </a:lnTo>
                      <a:lnTo>
                        <a:pt x="205" y="193"/>
                      </a:lnTo>
                      <a:lnTo>
                        <a:pt x="206" y="193"/>
                      </a:lnTo>
                      <a:lnTo>
                        <a:pt x="207" y="193"/>
                      </a:lnTo>
                      <a:lnTo>
                        <a:pt x="207" y="191"/>
                      </a:lnTo>
                      <a:lnTo>
                        <a:pt x="209" y="189"/>
                      </a:lnTo>
                      <a:lnTo>
                        <a:pt x="209" y="187"/>
                      </a:lnTo>
                      <a:lnTo>
                        <a:pt x="210" y="187"/>
                      </a:lnTo>
                      <a:lnTo>
                        <a:pt x="210" y="10"/>
                      </a:lnTo>
                      <a:lnTo>
                        <a:pt x="209" y="10"/>
                      </a:lnTo>
                      <a:lnTo>
                        <a:pt x="209" y="8"/>
                      </a:lnTo>
                      <a:lnTo>
                        <a:pt x="208" y="8"/>
                      </a:lnTo>
                      <a:lnTo>
                        <a:pt x="208" y="6"/>
                      </a:lnTo>
                      <a:lnTo>
                        <a:pt x="207" y="6"/>
                      </a:lnTo>
                      <a:lnTo>
                        <a:pt x="207" y="5"/>
                      </a:lnTo>
                      <a:lnTo>
                        <a:pt x="205" y="3"/>
                      </a:lnTo>
                      <a:lnTo>
                        <a:pt x="204" y="3"/>
                      </a:lnTo>
                      <a:lnTo>
                        <a:pt x="204" y="2"/>
                      </a:lnTo>
                      <a:lnTo>
                        <a:pt x="203" y="2"/>
                      </a:lnTo>
                      <a:lnTo>
                        <a:pt x="202" y="1"/>
                      </a:lnTo>
                      <a:lnTo>
                        <a:pt x="198" y="1"/>
                      </a:lnTo>
                      <a:lnTo>
                        <a:pt x="197" y="0"/>
                      </a:lnTo>
                      <a:lnTo>
                        <a:pt x="194" y="0"/>
                      </a:lnTo>
                      <a:lnTo>
                        <a:pt x="195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581160" y="5181120"/>
                  <a:ext cx="21240" cy="3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0" y="9574"/>
                      </a:moveTo>
                      <a:arcTo wR="10800" hR="10800" stAng="-10408812" swAng="46756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0" y="9574"/>
                      </a:moveTo>
                      <a:arcTo wR="10800" hR="10800" stAng="-10408812" swAng="467563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58080" y="5180040"/>
                  <a:ext cx="21240" cy="3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5" y="51"/>
                      </a:moveTo>
                      <a:arcTo wR="10800" hR="10800" stAng="-5733179" swAng="5298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5" y="51"/>
                      </a:moveTo>
                      <a:arcTo wR="10800" hR="10800" stAng="-5733179" swAng="529896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6580080" y="5178960"/>
                  <a:ext cx="398880" cy="66960"/>
                  <a:chOff x="6580080" y="5178960"/>
                  <a:chExt cx="398880" cy="669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6581160" y="5229000"/>
                    <a:ext cx="21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957000" y="5229000"/>
                    <a:ext cx="21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>
                    <a:off x="6590520" y="5178960"/>
                    <a:ext cx="37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6580080" y="5185440"/>
                    <a:ext cx="0" cy="5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590880" y="5245200"/>
                    <a:ext cx="37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978960" y="5185440"/>
                    <a:ext cx="0" cy="5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6626520" y="5194800"/>
                  <a:ext cx="322920" cy="32040"/>
                </a:xfrm>
                <a:prstGeom prst="roundRect">
                  <a:avLst>
                    <a:gd name="adj" fmla="val 12495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7" name=""/>
            <p:cNvSpPr/>
            <p:nvPr/>
          </p:nvSpPr>
          <p:spPr>
            <a:xfrm>
              <a:off x="5582160" y="5324760"/>
              <a:ext cx="2019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ix 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089400" y="4815000"/>
              <a:ext cx="399240" cy="430920"/>
              <a:chOff x="6089400" y="4815000"/>
              <a:chExt cx="399240" cy="430920"/>
            </a:xfrm>
          </p:grpSpPr>
          <p:sp>
            <p:nvSpPr>
              <p:cNvPr id="459" name=""/>
              <p:cNvSpPr/>
              <p:nvPr/>
            </p:nvSpPr>
            <p:spPr>
              <a:xfrm>
                <a:off x="6135120" y="4828320"/>
                <a:ext cx="311760" cy="32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6089400" y="4815000"/>
                <a:ext cx="399240" cy="430920"/>
                <a:chOff x="6089400" y="4815000"/>
                <a:chExt cx="399240" cy="430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167160" y="4854960"/>
                  <a:ext cx="251640" cy="244800"/>
                </a:xfrm>
                <a:custGeom>
                  <a:avLst/>
                  <a:gdLst/>
                  <a:ahLst/>
                  <a:rect l="l" t="t" r="r" b="b"/>
                  <a:pathLst>
                    <a:path w="226" h="220">
                      <a:moveTo>
                        <a:pt x="14" y="219"/>
                      </a:moveTo>
                      <a:lnTo>
                        <a:pt x="6" y="219"/>
                      </a:lnTo>
                      <a:lnTo>
                        <a:pt x="3" y="214"/>
                      </a:lnTo>
                      <a:lnTo>
                        <a:pt x="2" y="214"/>
                      </a:lnTo>
                      <a:lnTo>
                        <a:pt x="2" y="213"/>
                      </a:lnTo>
                      <a:lnTo>
                        <a:pt x="1" y="213"/>
                      </a:lnTo>
                      <a:lnTo>
                        <a:pt x="1" y="210"/>
                      </a:lnTo>
                      <a:lnTo>
                        <a:pt x="0" y="210"/>
                      </a:lnTo>
                      <a:lnTo>
                        <a:pt x="0" y="208"/>
                      </a:lnTo>
                      <a:lnTo>
                        <a:pt x="0" y="206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211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17" y="0"/>
                      </a:lnTo>
                      <a:lnTo>
                        <a:pt x="218" y="0"/>
                      </a:lnTo>
                      <a:lnTo>
                        <a:pt x="218" y="2"/>
                      </a:lnTo>
                      <a:lnTo>
                        <a:pt x="220" y="2"/>
                      </a:lnTo>
                      <a:lnTo>
                        <a:pt x="221" y="4"/>
                      </a:lnTo>
                      <a:lnTo>
                        <a:pt x="222" y="4"/>
                      </a:lnTo>
                      <a:lnTo>
                        <a:pt x="222" y="5"/>
                      </a:lnTo>
                      <a:lnTo>
                        <a:pt x="223" y="6"/>
                      </a:lnTo>
                      <a:lnTo>
                        <a:pt x="223" y="7"/>
                      </a:lnTo>
                      <a:lnTo>
                        <a:pt x="224" y="7"/>
                      </a:lnTo>
                      <a:lnTo>
                        <a:pt x="224" y="10"/>
                      </a:lnTo>
                      <a:lnTo>
                        <a:pt x="225" y="11"/>
                      </a:lnTo>
                      <a:lnTo>
                        <a:pt x="225" y="205"/>
                      </a:lnTo>
                      <a:lnTo>
                        <a:pt x="224" y="206"/>
                      </a:lnTo>
                      <a:lnTo>
                        <a:pt x="224" y="208"/>
                      </a:lnTo>
                      <a:lnTo>
                        <a:pt x="223" y="210"/>
                      </a:lnTo>
                      <a:lnTo>
                        <a:pt x="223" y="210"/>
                      </a:lnTo>
                      <a:lnTo>
                        <a:pt x="222" y="212"/>
                      </a:lnTo>
                      <a:lnTo>
                        <a:pt x="222" y="213"/>
                      </a:lnTo>
                      <a:lnTo>
                        <a:pt x="219" y="216"/>
                      </a:lnTo>
                      <a:lnTo>
                        <a:pt x="218" y="216"/>
                      </a:lnTo>
                      <a:lnTo>
                        <a:pt x="218" y="217"/>
                      </a:lnTo>
                      <a:lnTo>
                        <a:pt x="217" y="217"/>
                      </a:lnTo>
                      <a:lnTo>
                        <a:pt x="216" y="219"/>
                      </a:lnTo>
                      <a:lnTo>
                        <a:pt x="210" y="219"/>
                      </a:lnTo>
                      <a:lnTo>
                        <a:pt x="211" y="219"/>
                      </a:lnTo>
                      <a:lnTo>
                        <a:pt x="12" y="219"/>
                      </a:lnTo>
                      <a:lnTo>
                        <a:pt x="14" y="2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54920" y="4842720"/>
                  <a:ext cx="277200" cy="264960"/>
                </a:xfrm>
                <a:custGeom>
                  <a:avLst/>
                  <a:gdLst/>
                  <a:ahLst/>
                  <a:rect l="l" t="t" r="r" b="b"/>
                  <a:pathLst>
                    <a:path w="249" h="238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226"/>
                      </a:lnTo>
                      <a:lnTo>
                        <a:pt x="0" y="227"/>
                      </a:lnTo>
                      <a:lnTo>
                        <a:pt x="0" y="228"/>
                      </a:lnTo>
                      <a:lnTo>
                        <a:pt x="1" y="229"/>
                      </a:lnTo>
                      <a:lnTo>
                        <a:pt x="1" y="230"/>
                      </a:lnTo>
                      <a:lnTo>
                        <a:pt x="2" y="232"/>
                      </a:lnTo>
                      <a:lnTo>
                        <a:pt x="2" y="232"/>
                      </a:lnTo>
                      <a:lnTo>
                        <a:pt x="2" y="232"/>
                      </a:lnTo>
                      <a:lnTo>
                        <a:pt x="4" y="234"/>
                      </a:lnTo>
                      <a:lnTo>
                        <a:pt x="4" y="234"/>
                      </a:lnTo>
                      <a:lnTo>
                        <a:pt x="5" y="236"/>
                      </a:lnTo>
                      <a:lnTo>
                        <a:pt x="7" y="236"/>
                      </a:lnTo>
                      <a:lnTo>
                        <a:pt x="8" y="237"/>
                      </a:lnTo>
                      <a:lnTo>
                        <a:pt x="12" y="237"/>
                      </a:lnTo>
                      <a:lnTo>
                        <a:pt x="11" y="237"/>
                      </a:lnTo>
                      <a:lnTo>
                        <a:pt x="239" y="237"/>
                      </a:lnTo>
                      <a:lnTo>
                        <a:pt x="240" y="236"/>
                      </a:lnTo>
                      <a:lnTo>
                        <a:pt x="241" y="236"/>
                      </a:lnTo>
                      <a:lnTo>
                        <a:pt x="241" y="234"/>
                      </a:lnTo>
                      <a:lnTo>
                        <a:pt x="243" y="234"/>
                      </a:lnTo>
                      <a:lnTo>
                        <a:pt x="245" y="230"/>
                      </a:lnTo>
                      <a:lnTo>
                        <a:pt x="245" y="229"/>
                      </a:lnTo>
                      <a:lnTo>
                        <a:pt x="246" y="228"/>
                      </a:lnTo>
                      <a:lnTo>
                        <a:pt x="246" y="227"/>
                      </a:lnTo>
                      <a:lnTo>
                        <a:pt x="247" y="226"/>
                      </a:lnTo>
                      <a:lnTo>
                        <a:pt x="247" y="225"/>
                      </a:lnTo>
                      <a:lnTo>
                        <a:pt x="248" y="224"/>
                      </a:lnTo>
                      <a:lnTo>
                        <a:pt x="248" y="12"/>
                      </a:lnTo>
                      <a:lnTo>
                        <a:pt x="247" y="11"/>
                      </a:lnTo>
                      <a:lnTo>
                        <a:pt x="247" y="8"/>
                      </a:lnTo>
                      <a:lnTo>
                        <a:pt x="246" y="8"/>
                      </a:lnTo>
                      <a:lnTo>
                        <a:pt x="246" y="7"/>
                      </a:lnTo>
                      <a:lnTo>
                        <a:pt x="245" y="6"/>
                      </a:lnTo>
                      <a:lnTo>
                        <a:pt x="245" y="4"/>
                      </a:lnTo>
                      <a:lnTo>
                        <a:pt x="244" y="2"/>
                      </a:lnTo>
                      <a:lnTo>
                        <a:pt x="243" y="2"/>
                      </a:lnTo>
                      <a:lnTo>
                        <a:pt x="243" y="2"/>
                      </a:lnTo>
                      <a:lnTo>
                        <a:pt x="242" y="2"/>
                      </a:lnTo>
                      <a:lnTo>
                        <a:pt x="241" y="0"/>
                      </a:lnTo>
                      <a:lnTo>
                        <a:pt x="238" y="0"/>
                      </a:lnTo>
                      <a:lnTo>
                        <a:pt x="238" y="0"/>
                      </a:lnTo>
                      <a:lnTo>
                        <a:pt x="11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288480" y="4815000"/>
                  <a:ext cx="168120" cy="343800"/>
                </a:xfrm>
                <a:custGeom>
                  <a:avLst/>
                  <a:gdLst/>
                  <a:ahLst/>
                  <a:rect l="l" t="t" r="r" b="b"/>
                  <a:pathLst>
                    <a:path w="151" h="309">
                      <a:moveTo>
                        <a:pt x="0" y="0"/>
                      </a:moveTo>
                      <a:lnTo>
                        <a:pt x="141" y="0"/>
                      </a:lnTo>
                      <a:lnTo>
                        <a:pt x="145" y="6"/>
                      </a:lnTo>
                      <a:lnTo>
                        <a:pt x="150" y="282"/>
                      </a:lnTo>
                      <a:lnTo>
                        <a:pt x="145" y="295"/>
                      </a:lnTo>
                      <a:lnTo>
                        <a:pt x="132" y="308"/>
                      </a:lnTo>
                      <a:lnTo>
                        <a:pt x="0" y="30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6288480" y="5127840"/>
                  <a:ext cx="167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28280" y="4815000"/>
                  <a:ext cx="167040" cy="343800"/>
                </a:xfrm>
                <a:custGeom>
                  <a:avLst/>
                  <a:gdLst/>
                  <a:ahLst/>
                  <a:rect l="l" t="t" r="r" b="b"/>
                  <a:pathLst>
                    <a:path w="150" h="309">
                      <a:moveTo>
                        <a:pt x="149" y="0"/>
                      </a:moveTo>
                      <a:lnTo>
                        <a:pt x="8" y="0"/>
                      </a:lnTo>
                      <a:lnTo>
                        <a:pt x="4" y="6"/>
                      </a:lnTo>
                      <a:lnTo>
                        <a:pt x="0" y="282"/>
                      </a:lnTo>
                      <a:lnTo>
                        <a:pt x="4" y="295"/>
                      </a:lnTo>
                      <a:lnTo>
                        <a:pt x="17" y="308"/>
                      </a:lnTo>
                      <a:lnTo>
                        <a:pt x="149" y="30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28280" y="5127840"/>
                  <a:ext cx="16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171480" y="5157720"/>
                  <a:ext cx="648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178320" y="5178960"/>
                  <a:ext cx="10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6189480" y="5157720"/>
                  <a:ext cx="648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377760" y="5157720"/>
                  <a:ext cx="648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384240" y="5178960"/>
                  <a:ext cx="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6393600" y="5157720"/>
                  <a:ext cx="7560" cy="2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74000" y="4864680"/>
                  <a:ext cx="234720" cy="222480"/>
                </a:xfrm>
                <a:custGeom>
                  <a:avLst/>
                  <a:gdLst/>
                  <a:ahLst/>
                  <a:rect l="l" t="t" r="r" b="b"/>
                  <a:pathLst>
                    <a:path w="211" h="200">
                      <a:moveTo>
                        <a:pt x="0" y="14"/>
                      </a:moveTo>
                      <a:lnTo>
                        <a:pt x="0" y="185"/>
                      </a:lnTo>
                      <a:lnTo>
                        <a:pt x="0" y="186"/>
                      </a:lnTo>
                      <a:lnTo>
                        <a:pt x="0" y="188"/>
                      </a:lnTo>
                      <a:lnTo>
                        <a:pt x="1" y="189"/>
                      </a:lnTo>
                      <a:lnTo>
                        <a:pt x="1" y="191"/>
                      </a:lnTo>
                      <a:lnTo>
                        <a:pt x="5" y="196"/>
                      </a:lnTo>
                      <a:lnTo>
                        <a:pt x="6" y="196"/>
                      </a:lnTo>
                      <a:lnTo>
                        <a:pt x="6" y="197"/>
                      </a:lnTo>
                      <a:lnTo>
                        <a:pt x="8" y="197"/>
                      </a:lnTo>
                      <a:lnTo>
                        <a:pt x="8" y="199"/>
                      </a:lnTo>
                      <a:lnTo>
                        <a:pt x="200" y="199"/>
                      </a:lnTo>
                      <a:lnTo>
                        <a:pt x="201" y="197"/>
                      </a:lnTo>
                      <a:lnTo>
                        <a:pt x="203" y="197"/>
                      </a:lnTo>
                      <a:lnTo>
                        <a:pt x="203" y="196"/>
                      </a:lnTo>
                      <a:lnTo>
                        <a:pt x="204" y="196"/>
                      </a:lnTo>
                      <a:lnTo>
                        <a:pt x="204" y="195"/>
                      </a:lnTo>
                      <a:lnTo>
                        <a:pt x="205" y="193"/>
                      </a:lnTo>
                      <a:lnTo>
                        <a:pt x="206" y="193"/>
                      </a:lnTo>
                      <a:lnTo>
                        <a:pt x="207" y="193"/>
                      </a:lnTo>
                      <a:lnTo>
                        <a:pt x="207" y="191"/>
                      </a:lnTo>
                      <a:lnTo>
                        <a:pt x="209" y="189"/>
                      </a:lnTo>
                      <a:lnTo>
                        <a:pt x="209" y="187"/>
                      </a:lnTo>
                      <a:lnTo>
                        <a:pt x="210" y="187"/>
                      </a:lnTo>
                      <a:lnTo>
                        <a:pt x="210" y="10"/>
                      </a:lnTo>
                      <a:lnTo>
                        <a:pt x="209" y="10"/>
                      </a:lnTo>
                      <a:lnTo>
                        <a:pt x="209" y="8"/>
                      </a:lnTo>
                      <a:lnTo>
                        <a:pt x="208" y="8"/>
                      </a:lnTo>
                      <a:lnTo>
                        <a:pt x="208" y="6"/>
                      </a:lnTo>
                      <a:lnTo>
                        <a:pt x="207" y="6"/>
                      </a:lnTo>
                      <a:lnTo>
                        <a:pt x="207" y="5"/>
                      </a:lnTo>
                      <a:lnTo>
                        <a:pt x="205" y="3"/>
                      </a:lnTo>
                      <a:lnTo>
                        <a:pt x="204" y="3"/>
                      </a:lnTo>
                      <a:lnTo>
                        <a:pt x="204" y="2"/>
                      </a:lnTo>
                      <a:lnTo>
                        <a:pt x="203" y="2"/>
                      </a:lnTo>
                      <a:lnTo>
                        <a:pt x="202" y="1"/>
                      </a:lnTo>
                      <a:lnTo>
                        <a:pt x="198" y="1"/>
                      </a:lnTo>
                      <a:lnTo>
                        <a:pt x="197" y="0"/>
                      </a:lnTo>
                      <a:lnTo>
                        <a:pt x="194" y="0"/>
                      </a:lnTo>
                      <a:lnTo>
                        <a:pt x="195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90120" y="5181120"/>
                  <a:ext cx="21240" cy="37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0" y="9574"/>
                      </a:moveTo>
                      <a:arcTo wR="10800" hR="10800" stAng="-10408812" swAng="46756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0" y="9574"/>
                      </a:moveTo>
                      <a:arcTo wR="10800" hR="10800" stAng="-10408812" swAng="467563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66680" y="5180040"/>
                  <a:ext cx="21960" cy="39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5" y="51"/>
                      </a:moveTo>
                      <a:arcTo wR="10800" hR="10800" stAng="-5733179" swAng="5298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5" y="51"/>
                      </a:moveTo>
                      <a:arcTo wR="10800" hR="10800" stAng="-5733179" swAng="529896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6089400" y="5178960"/>
                  <a:ext cx="398880" cy="66960"/>
                  <a:chOff x="6089400" y="5178960"/>
                  <a:chExt cx="398880" cy="66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6090120" y="5229000"/>
                    <a:ext cx="21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465600" y="522900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6099840" y="5178960"/>
                    <a:ext cx="37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6089400" y="5185440"/>
                    <a:ext cx="0" cy="5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100200" y="5245200"/>
                    <a:ext cx="37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488280" y="5185440"/>
                    <a:ext cx="0" cy="5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6135840" y="5194800"/>
                  <a:ext cx="322920" cy="32040"/>
                </a:xfrm>
                <a:prstGeom prst="roundRect">
                  <a:avLst>
                    <a:gd name="adj" fmla="val 12495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"/>
          <p:cNvSpPr/>
          <p:nvPr/>
        </p:nvSpPr>
        <p:spPr>
          <a:xfrm>
            <a:off x="3800520" y="3390840"/>
            <a:ext cx="428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69440" y="55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08800" y="4432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73280" y="4581360"/>
            <a:ext cx="1389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T ClearCase users can access Unix VOB and View Servers using their native NT environ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62320" y="2098800"/>
            <a:ext cx="27453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 Ser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learCase View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19600" y="2909880"/>
            <a:ext cx="1251000" cy="1282680"/>
          </a:xfrm>
          <a:custGeom>
            <a:avLst/>
            <a:gdLst/>
            <a:ahLst/>
            <a:rect l="l" t="t" r="r" b="b"/>
            <a:pathLst>
              <a:path w="1414" h="1449">
                <a:moveTo>
                  <a:pt x="0" y="111"/>
                </a:moveTo>
                <a:lnTo>
                  <a:pt x="0" y="1305"/>
                </a:lnTo>
                <a:lnTo>
                  <a:pt x="1413" y="1448"/>
                </a:lnTo>
                <a:lnTo>
                  <a:pt x="1413" y="0"/>
                </a:lnTo>
                <a:lnTo>
                  <a:pt x="0" y="111"/>
                </a:lnTo>
              </a:path>
            </a:pathLst>
          </a:custGeom>
          <a:solidFill>
            <a:srgbClr val="00968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763960" y="3309840"/>
            <a:ext cx="220680" cy="26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66760" y="3452760"/>
            <a:ext cx="433440" cy="305640"/>
          </a:xfrm>
          <a:prstGeom prst="cube">
            <a:avLst>
              <a:gd name="adj" fmla="val 24995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65720" y="3336840"/>
            <a:ext cx="301680" cy="25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86480" y="3711600"/>
            <a:ext cx="146160" cy="16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307200" y="3693960"/>
            <a:ext cx="109440" cy="26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7800" y="3479760"/>
            <a:ext cx="455400" cy="325800"/>
          </a:xfrm>
          <a:prstGeom prst="cube">
            <a:avLst>
              <a:gd name="adj" fmla="val 24995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71440" y="3863880"/>
            <a:ext cx="388800" cy="1944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7360" y="3884760"/>
            <a:ext cx="388800" cy="1944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44600" y="3087720"/>
            <a:ext cx="688680" cy="325800"/>
          </a:xfrm>
          <a:prstGeom prst="cube">
            <a:avLst>
              <a:gd name="adj" fmla="val 2499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47480" y="2747880"/>
            <a:ext cx="53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7170840" y="2909880"/>
          <a:ext cx="803160" cy="13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70840" y="2909880"/>
                    <a:ext cx="8031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6848640" y="35514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656240" y="3763440"/>
            <a:ext cx="0" cy="855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710240" y="3924000"/>
            <a:ext cx="909360" cy="6951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36000" y="294480"/>
            <a:ext cx="51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Example Solution using 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5800" y="14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Install TAS on every VOB/View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F9ED-36BD-4B9C-AA67-E3FF2C73429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086640" y="51480"/>
            <a:ext cx="45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Role of TAS i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learCase Environment</a:t>
            </a:r>
            <a:r>
              <a:rPr b="1" lang="en-US" sz="3200" spc="-1" strike="noStrike">
                <a:solidFill>
                  <a:srgbClr val="b3b3b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30440" y="1396800"/>
            <a:ext cx="62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TAS allows NT clients to access Un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VOB and View storage direc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46280" y="2432160"/>
            <a:ext cx="6248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is using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AS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AS volume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hort name for a directory path in the Unix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 volume “vobstore” refers to the VOB storage directory - /export/vob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 access using UNC path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\\&lt;servername&gt;\vobstore\vob.v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D67A-CAC8-40AC-AD73-5C02247B6E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731040" y="2944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onfiguring 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698560" y="1246320"/>
            <a:ext cx="664668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Volum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path to VOB/View storage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e85e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cstore/vobstore, /ccstore/view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mask to 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Filename Case to Pr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le op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locks (opportunistic locks) are an SMB protocol performance enhancement. A client holding an exclusive oplock on a given file can read or write to a local cache instead of having to commit all changes to the server through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3C48-FF61-4091-8179-CDDB8B40B58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76240" y="1042560"/>
            <a:ext cx="66690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s contain heterogeneous systems that use different protocols for remote file system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1880" y="310320"/>
            <a:ext cx="55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The Interoperability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3000" y="326340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Network File System (NF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9480" y="3171600"/>
            <a:ext cx="38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Server Message Block (S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Common Internet File System (CIF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60400" y="550656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NetWare Core Protocol (N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61120" y="549252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AppleTalk Filing Protocol (AF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14640" y="6178680"/>
            <a:ext cx="6669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we’ll focus on Unix and Windows Inte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197760" y="4186080"/>
            <a:ext cx="1720800" cy="1200240"/>
            <a:chOff x="6197760" y="4186080"/>
            <a:chExt cx="1720800" cy="120024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6211800" y="4186080"/>
              <a:ext cx="17067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211800" y="4700520"/>
              <a:ext cx="17067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197760" y="5216400"/>
              <a:ext cx="170640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2873520" y="4176720"/>
            <a:ext cx="1328760" cy="1293840"/>
            <a:chOff x="2873520" y="4176720"/>
            <a:chExt cx="1328760" cy="129384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2887560" y="4176720"/>
              <a:ext cx="13147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873520" y="4788000"/>
              <a:ext cx="131436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2887560" y="5427720"/>
              <a:ext cx="1314720" cy="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943360" y="2031840"/>
            <a:ext cx="9032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408720" y="2055960"/>
            <a:ext cx="1461960" cy="112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36D5-9369-45C6-BA5C-62E024D48AC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200760" y="294480"/>
            <a:ext cx="42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onfiguring TAS 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777760" y="1245960"/>
            <a:ext cx="636588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Username map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ClearCase service account to appropriate UNIX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14600" y="2685240"/>
            <a:ext cx="2014200" cy="384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T, clearcase_al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0" y="2685240"/>
            <a:ext cx="1736640" cy="384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9800" rIns="109800" tIns="54720" bIns="5472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IX, vob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65800" y="2878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440" rIns="109440" tIns="-54720" bIns="-54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778120" y="3290760"/>
            <a:ext cx="636588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uthentication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 TAS to use NT PDC 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use loc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add users to TAS password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B4A5-3D5D-4D21-AFD0-CBB21C808D1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492280" y="29448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onfiguring a ClearCase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2160" y="4588920"/>
            <a:ext cx="610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by-step TAS instructions for use with ClearCase availabl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ttp://clearcase.rational.com/literature/TA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46400" y="16304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2255760" y="2082600"/>
            <a:ext cx="6445440" cy="39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FS performance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Maximum number of mnodes to keep on the free lis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Maximum number of mnodes to keep for cleartext free 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8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39E8-F7D9-4376-9BDB-90FCE01505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425040" y="51480"/>
            <a:ext cx="38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lear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Region Synchron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0000" y="2016000"/>
            <a:ext cx="7261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UNC path and not the NFS path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gion synchron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ically show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FS path found in the registry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ath has to be changed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the path from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\\fileservice\export\vobstore\john_maestro_test.v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:   \\fileservice\vobstore\john_maestro_test.v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732200" y="2562120"/>
            <a:ext cx="4411800" cy="2333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735640" y="124524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Unix VOBs/Views accessible to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840B-2F72-4A47-A7F8-CB2774AD5F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297960" y="2944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Implementatio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96960" y="1316160"/>
            <a:ext cx="664704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ch for conflicts between PC-NFS and SMB re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network access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and NT usernames and primary group mus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with credmap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OB/View permissions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ize paths for VOBs/Views using UNC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AC29-9120-4F1F-87DA-1DEFA551A0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5253120" y="295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633840" y="2144880"/>
            <a:ext cx="3314520" cy="36576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292640" y="29448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5C9D-3B3B-4A7A-8908-CDA701EFD3F4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33040" y="31032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Origin of NFS and SMB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81160" y="1153440"/>
            <a:ext cx="322272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spcAft>
                <a:spcPts val="601"/>
              </a:spcAft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NFS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Su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ly 1980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d free to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 in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ly became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 for UNIX fi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1200" y="1158480"/>
            <a:ext cx="3724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spcAft>
                <a:spcPts val="601"/>
              </a:spcAft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in early 1980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icrosoft, IBM, Inte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specif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by X/Ope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and 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standard for P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fc0128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5846760"/>
            <a:ext cx="6669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patibility created the need for interoperabilit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C821-23E6-42EF-8F80-38C0FA0A2A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301840" y="1771560"/>
            <a:ext cx="72900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B (CIFS) servers running o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yntax TotalNET Advanced Server, Sam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S client software installed on P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ummingbird NFS Maestro, Intergraph DiskAcces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 Windows Services for Unix NFS Cli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any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protocol network attached storage (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etaStor, EMC, Network Appliance, Ausp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09840" y="67320"/>
            <a:ext cx="47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ommon Windows/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Interoperabilit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7A7E-5A81-4F76-A3D5-CA84430A96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743440" y="1442880"/>
            <a:ext cx="0" cy="51958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86240" y="310320"/>
            <a:ext cx="26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SMB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67120" y="317556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x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1440" y="3036960"/>
            <a:ext cx="151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, FDD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M, 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61280" y="12466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tandard with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48440" y="124992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MB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64520" y="58950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8720" y="4799160"/>
            <a:ext cx="1565280" cy="1030320"/>
          </a:xfrm>
          <a:prstGeom prst="flowChartProcess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e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edir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4736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54400" y="1720800"/>
            <a:ext cx="1041120" cy="538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54400" y="2259000"/>
            <a:ext cx="1041120" cy="53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354400" y="2797200"/>
            <a:ext cx="1041120" cy="36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806480" y="4495680"/>
            <a:ext cx="131472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806480" y="5135400"/>
            <a:ext cx="1314720" cy="64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806480" y="5775480"/>
            <a:ext cx="1314720" cy="428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998880" y="2204640"/>
            <a:ext cx="1254240" cy="822600"/>
            <a:chOff x="3998880" y="2204640"/>
            <a:chExt cx="1254240" cy="822600"/>
          </a:xfrm>
        </p:grpSpPr>
        <p:sp>
          <p:nvSpPr>
            <p:cNvPr id="90" name=""/>
            <p:cNvSpPr/>
            <p:nvPr/>
          </p:nvSpPr>
          <p:spPr>
            <a:xfrm>
              <a:off x="3998880" y="2205000"/>
              <a:ext cx="1254240" cy="822240"/>
            </a:xfrm>
            <a:prstGeom prst="flowChartProcess">
              <a:avLst/>
            </a:prstGeom>
            <a:solidFill>
              <a:srgbClr val="ff99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" name=""/>
            <p:cNvCxnSpPr>
              <a:stCxn id="90" idx="0"/>
              <a:endCxn id="90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90" idx="0"/>
            </p:cNvCxnSpPr>
            <p:nvPr/>
          </p:nvCxnSpPr>
          <p:spPr>
            <a:xfrm>
              <a:off x="4626000" y="2204640"/>
              <a:ext cx="216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93" name=""/>
            <p:cNvCxnSpPr>
              <a:stCxn id="90" idx="0"/>
              <a:endCxn id="90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0" idx="0"/>
              <a:endCxn id="90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90" idx="0"/>
              <a:endCxn id="90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632480" y="220500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72320" y="23198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0" y="234216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8840" y="26881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00680" y="267480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83520" y="1904760"/>
            <a:ext cx="2104920" cy="1643400"/>
            <a:chOff x="6383520" y="1904760"/>
            <a:chExt cx="2104920" cy="1643400"/>
          </a:xfrm>
        </p:grpSpPr>
        <p:cxnSp>
          <p:nvCxnSpPr>
            <p:cNvPr id="102" name=""/>
            <p:cNvCxnSpPr>
              <a:stCxn id="103" idx="0"/>
              <a:endCxn id="103" idx="0"/>
            </p:cNvCxnSpPr>
            <p:nvPr/>
          </p:nvCxnSpPr>
          <p:spPr>
            <a:xfrm>
              <a:off x="7454520" y="190476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103" idx="0"/>
            </p:cNvCxnSpPr>
            <p:nvPr/>
          </p:nvCxnSpPr>
          <p:spPr>
            <a:xfrm>
              <a:off x="7454880" y="1905120"/>
              <a:ext cx="216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5" name=""/>
            <p:cNvCxnSpPr>
              <a:stCxn id="103" idx="0"/>
              <a:endCxn id="103" idx="0"/>
            </p:cNvCxnSpPr>
            <p:nvPr/>
          </p:nvCxnSpPr>
          <p:spPr>
            <a:xfrm>
              <a:off x="7454520" y="190476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"/>
            <p:cNvCxnSpPr>
              <a:stCxn id="103" idx="0"/>
              <a:endCxn id="103" idx="0"/>
            </p:cNvCxnSpPr>
            <p:nvPr/>
          </p:nvCxnSpPr>
          <p:spPr>
            <a:xfrm>
              <a:off x="7454520" y="190476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103" idx="0"/>
              <a:endCxn id="103" idx="0"/>
            </p:cNvCxnSpPr>
            <p:nvPr/>
          </p:nvCxnSpPr>
          <p:spPr>
            <a:xfrm>
              <a:off x="7454520" y="190476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grpSp>
          <p:nvGrpSpPr>
            <p:cNvPr id="108" name=""/>
            <p:cNvGrpSpPr/>
            <p:nvPr/>
          </p:nvGrpSpPr>
          <p:grpSpPr>
            <a:xfrm>
              <a:off x="6383520" y="1905120"/>
              <a:ext cx="2104920" cy="1643040"/>
              <a:chOff x="6383520" y="1905120"/>
              <a:chExt cx="2104920" cy="1643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419880" y="2725560"/>
                <a:ext cx="830160" cy="822600"/>
              </a:xfrm>
              <a:prstGeom prst="flowChartProcess">
                <a:avLst/>
              </a:prstGeom>
              <a:solidFill>
                <a:srgbClr val="cc33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3520" y="2989800"/>
                <a:ext cx="88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NetBEU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6421320" y="1905120"/>
                <a:ext cx="2067120" cy="822240"/>
                <a:chOff x="6421320" y="1905120"/>
                <a:chExt cx="2067120" cy="8222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421320" y="1905120"/>
                  <a:ext cx="2067120" cy="822240"/>
                </a:xfrm>
                <a:prstGeom prst="flowChartProcess">
                  <a:avLst/>
                </a:prstGeom>
                <a:solidFill>
                  <a:srgbClr val="cc33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39160" y="1972440"/>
                  <a:ext cx="566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M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78240" y="2388240"/>
                  <a:ext cx="87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NetBI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423120" y="2305080"/>
                  <a:ext cx="2033280" cy="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5" name=""/>
            <p:cNvCxnSpPr>
              <a:stCxn id="109" idx="0"/>
              <a:endCxn id="109" idx="0"/>
            </p:cNvCxnSpPr>
            <p:nvPr/>
          </p:nvCxnSpPr>
          <p:spPr>
            <a:xfrm>
              <a:off x="6835320" y="27252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09" idx="0"/>
            </p:cNvCxnSpPr>
            <p:nvPr/>
          </p:nvCxnSpPr>
          <p:spPr>
            <a:xfrm>
              <a:off x="6835320" y="2725200"/>
              <a:ext cx="252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7" name=""/>
            <p:cNvCxnSpPr>
              <a:stCxn id="109" idx="0"/>
              <a:endCxn id="109" idx="0"/>
            </p:cNvCxnSpPr>
            <p:nvPr/>
          </p:nvCxnSpPr>
          <p:spPr>
            <a:xfrm>
              <a:off x="6835320" y="27252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09" idx="0"/>
              <a:endCxn id="109" idx="0"/>
            </p:cNvCxnSpPr>
            <p:nvPr/>
          </p:nvCxnSpPr>
          <p:spPr>
            <a:xfrm>
              <a:off x="6835320" y="27252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09" idx="0"/>
              <a:endCxn id="109" idx="0"/>
            </p:cNvCxnSpPr>
            <p:nvPr/>
          </p:nvCxnSpPr>
          <p:spPr>
            <a:xfrm>
              <a:off x="6835320" y="27252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20" name=""/>
            <p:cNvSpPr/>
            <p:nvPr/>
          </p:nvSpPr>
          <p:spPr>
            <a:xfrm>
              <a:off x="6423120" y="2725560"/>
              <a:ext cx="8143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98880" y="2204640"/>
            <a:ext cx="1254240" cy="822600"/>
            <a:chOff x="3998880" y="2204640"/>
            <a:chExt cx="1254240" cy="822600"/>
          </a:xfrm>
        </p:grpSpPr>
        <p:sp>
          <p:nvSpPr>
            <p:cNvPr id="123" name=""/>
            <p:cNvSpPr/>
            <p:nvPr/>
          </p:nvSpPr>
          <p:spPr>
            <a:xfrm>
              <a:off x="3998880" y="2205000"/>
              <a:ext cx="1254240" cy="822240"/>
            </a:xfrm>
            <a:prstGeom prst="flowChartProcess">
              <a:avLst/>
            </a:prstGeom>
            <a:solidFill>
              <a:srgbClr val="ff99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3" idx="0"/>
              <a:endCxn id="123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0"/>
            </p:cNvCxnSpPr>
            <p:nvPr/>
          </p:nvCxnSpPr>
          <p:spPr>
            <a:xfrm>
              <a:off x="4626000" y="2204640"/>
              <a:ext cx="216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123" idx="0"/>
              <a:endCxn id="123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>
              <a:stCxn id="123" idx="0"/>
              <a:endCxn id="123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stCxn id="123" idx="0"/>
              <a:endCxn id="123" idx="0"/>
            </p:cNvCxnSpPr>
            <p:nvPr/>
          </p:nvCxnSpPr>
          <p:spPr>
            <a:xfrm>
              <a:off x="4625640" y="220464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29" name=""/>
            <p:cNvSpPr/>
            <p:nvPr/>
          </p:nvSpPr>
          <p:spPr>
            <a:xfrm>
              <a:off x="4632480" y="220500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2320" y="23198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3600" y="234216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98840" y="268812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00680" y="267480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22480" y="6035400"/>
            <a:ext cx="1254240" cy="822600"/>
            <a:chOff x="2922480" y="6035400"/>
            <a:chExt cx="1254240" cy="822600"/>
          </a:xfrm>
        </p:grpSpPr>
        <p:sp>
          <p:nvSpPr>
            <p:cNvPr id="135" name=""/>
            <p:cNvSpPr/>
            <p:nvPr/>
          </p:nvSpPr>
          <p:spPr>
            <a:xfrm>
              <a:off x="2922480" y="6035760"/>
              <a:ext cx="1254240" cy="822240"/>
            </a:xfrm>
            <a:prstGeom prst="flowChartProcess">
              <a:avLst/>
            </a:prstGeom>
            <a:solidFill>
              <a:srgbClr val="ff99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0"/>
              <a:endCxn id="135" idx="0"/>
            </p:cNvCxnSpPr>
            <p:nvPr/>
          </p:nvCxnSpPr>
          <p:spPr>
            <a:xfrm>
              <a:off x="354924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5" idx="0"/>
            </p:cNvCxnSpPr>
            <p:nvPr/>
          </p:nvCxnSpPr>
          <p:spPr>
            <a:xfrm>
              <a:off x="3549600" y="6035400"/>
              <a:ext cx="216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5" idx="0"/>
              <a:endCxn id="135" idx="0"/>
            </p:cNvCxnSpPr>
            <p:nvPr/>
          </p:nvCxnSpPr>
          <p:spPr>
            <a:xfrm>
              <a:off x="354924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35" idx="0"/>
              <a:endCxn id="135" idx="0"/>
            </p:cNvCxnSpPr>
            <p:nvPr/>
          </p:nvCxnSpPr>
          <p:spPr>
            <a:xfrm>
              <a:off x="354924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35" idx="0"/>
              <a:endCxn id="135" idx="0"/>
            </p:cNvCxnSpPr>
            <p:nvPr/>
          </p:nvCxnSpPr>
          <p:spPr>
            <a:xfrm>
              <a:off x="354924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3556080" y="603576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95920" y="6150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7200" y="6172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2440" y="6518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24280" y="650556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102520" y="4998960"/>
            <a:ext cx="1041480" cy="1440000"/>
            <a:chOff x="8102520" y="4998960"/>
            <a:chExt cx="1041480" cy="1440000"/>
          </a:xfrm>
        </p:grpSpPr>
        <p:pic>
          <p:nvPicPr>
            <p:cNvPr id="147" name="" descr=""/>
            <p:cNvPicPr/>
            <p:nvPr/>
          </p:nvPicPr>
          <p:blipFill>
            <a:blip r:embed="rId7"/>
            <a:stretch/>
          </p:blipFill>
          <p:spPr>
            <a:xfrm>
              <a:off x="8102520" y="4998960"/>
              <a:ext cx="104148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8"/>
            <a:stretch/>
          </p:blipFill>
          <p:spPr>
            <a:xfrm>
              <a:off x="8102520" y="5537160"/>
              <a:ext cx="104148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8102520" y="6075360"/>
              <a:ext cx="1041480" cy="36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162840" y="4737240"/>
            <a:ext cx="2108160" cy="1647720"/>
            <a:chOff x="6162840" y="4737240"/>
            <a:chExt cx="2108160" cy="1647720"/>
          </a:xfrm>
        </p:grpSpPr>
        <p:sp>
          <p:nvSpPr>
            <p:cNvPr id="151" name=""/>
            <p:cNvSpPr/>
            <p:nvPr/>
          </p:nvSpPr>
          <p:spPr>
            <a:xfrm>
              <a:off x="6199200" y="5557680"/>
              <a:ext cx="830160" cy="822600"/>
            </a:xfrm>
            <a:prstGeom prst="flowChartProcess">
              <a:avLst/>
            </a:prstGeom>
            <a:solidFill>
              <a:srgbClr val="cc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016760" y="5562360"/>
              <a:ext cx="1254240" cy="822600"/>
              <a:chOff x="7016760" y="5562360"/>
              <a:chExt cx="1254240" cy="822600"/>
            </a:xfrm>
          </p:grpSpPr>
          <p:sp>
            <p:nvSpPr>
              <p:cNvPr id="153" name=""/>
              <p:cNvSpPr/>
              <p:nvPr/>
            </p:nvSpPr>
            <p:spPr>
              <a:xfrm>
                <a:off x="7016760" y="5562720"/>
                <a:ext cx="1254240" cy="822240"/>
              </a:xfrm>
              <a:prstGeom prst="flowChartProcess">
                <a:avLst/>
              </a:prstGeom>
              <a:solidFill>
                <a:srgbClr val="ff99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4" name=""/>
              <p:cNvCxnSpPr>
                <a:stCxn id="153" idx="0"/>
                <a:endCxn id="153" idx="0"/>
              </p:cNvCxnSpPr>
              <p:nvPr/>
            </p:nvCxnSpPr>
            <p:spPr>
              <a:xfrm>
                <a:off x="7643520" y="5562360"/>
                <a:ext cx="10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53" idx="0"/>
              </p:cNvCxnSpPr>
              <p:nvPr/>
            </p:nvCxnSpPr>
            <p:spPr>
              <a:xfrm>
                <a:off x="7643880" y="5562360"/>
                <a:ext cx="2160" cy="25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53" idx="0"/>
                <a:endCxn id="153" idx="0"/>
              </p:cNvCxnSpPr>
              <p:nvPr/>
            </p:nvCxnSpPr>
            <p:spPr>
              <a:xfrm>
                <a:off x="7643520" y="5562360"/>
                <a:ext cx="10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53" idx="0"/>
                <a:endCxn id="153" idx="0"/>
              </p:cNvCxnSpPr>
              <p:nvPr/>
            </p:nvCxnSpPr>
            <p:spPr>
              <a:xfrm>
                <a:off x="7643520" y="5562360"/>
                <a:ext cx="10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0"/>
                <a:endCxn id="153" idx="0"/>
              </p:cNvCxnSpPr>
              <p:nvPr/>
            </p:nvCxnSpPr>
            <p:spPr>
              <a:xfrm>
                <a:off x="7643520" y="5562360"/>
                <a:ext cx="10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</a:ln>
            </p:spPr>
          </p:cxnSp>
          <p:sp>
            <p:nvSpPr>
              <p:cNvPr id="159" name=""/>
              <p:cNvSpPr/>
              <p:nvPr/>
            </p:nvSpPr>
            <p:spPr>
              <a:xfrm>
                <a:off x="7650360" y="5562720"/>
                <a:ext cx="0" cy="460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90200" y="56775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TC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01480" y="569988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U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16720" y="6045840"/>
                <a:ext cx="35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18560" y="6032520"/>
                <a:ext cx="12207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6162840" y="5821920"/>
              <a:ext cx="88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etBEU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0640" y="4737240"/>
              <a:ext cx="2067120" cy="822240"/>
            </a:xfrm>
            <a:prstGeom prst="flowChartProcess">
              <a:avLst/>
            </a:prstGeom>
            <a:solidFill>
              <a:srgbClr val="cc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8480" y="480420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57560" y="522036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etB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2440" y="5137200"/>
              <a:ext cx="203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2440" y="5560920"/>
              <a:ext cx="2033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223400" y="655200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x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9960" y="4684680"/>
            <a:ext cx="1444680" cy="612720"/>
          </a:xfrm>
          <a:prstGeom prst="leftRightArrow">
            <a:avLst>
              <a:gd name="adj1" fmla="val 50000"/>
              <a:gd name="adj2" fmla="val 46938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1D87-1BEB-47A7-99F8-2E6ECE670C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67440" y="5611680"/>
            <a:ext cx="1565280" cy="1030320"/>
          </a:xfrm>
          <a:prstGeom prst="flowChartProcess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e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edir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06520" y="310320"/>
            <a:ext cx="31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PC-NFS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38560" y="323100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x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14280" y="2911680"/>
            <a:ext cx="151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, FDD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M, 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6040" y="117684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tandard with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6120" y="65361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43440" y="1442880"/>
            <a:ext cx="0" cy="51958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4200" y="11847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PC-NF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35440" y="3767040"/>
            <a:ext cx="1414440" cy="549360"/>
          </a:xfrm>
          <a:prstGeom prst="flowChartProcess">
            <a:avLst/>
          </a:prstGeom>
          <a:solidFill>
            <a:srgbClr val="cc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F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73280" y="62614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19360" y="1720800"/>
            <a:ext cx="1041480" cy="538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619360" y="2259000"/>
            <a:ext cx="1041480" cy="538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619360" y="2797200"/>
            <a:ext cx="1041480" cy="363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798560" y="5141880"/>
            <a:ext cx="1314360" cy="639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1798560" y="5781600"/>
            <a:ext cx="1314360" cy="63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1798560" y="6421320"/>
            <a:ext cx="1314360" cy="42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7827840" y="4917960"/>
            <a:ext cx="1320840" cy="1320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355920" y="4808520"/>
            <a:ext cx="1565280" cy="1030320"/>
          </a:xfrm>
          <a:prstGeom prst="flowChartProcess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e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edir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998880" y="1726920"/>
            <a:ext cx="1254240" cy="1213200"/>
            <a:chOff x="3998880" y="1726920"/>
            <a:chExt cx="1254240" cy="1213200"/>
          </a:xfrm>
        </p:grpSpPr>
        <p:sp>
          <p:nvSpPr>
            <p:cNvPr id="192" name=""/>
            <p:cNvSpPr/>
            <p:nvPr/>
          </p:nvSpPr>
          <p:spPr>
            <a:xfrm>
              <a:off x="3998880" y="1727280"/>
              <a:ext cx="1254240" cy="1212840"/>
            </a:xfrm>
            <a:prstGeom prst="flowChartProcess">
              <a:avLst/>
            </a:prstGeom>
            <a:solidFill>
              <a:srgbClr val="cc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92" idx="0"/>
              <a:endCxn id="192" idx="0"/>
            </p:cNvCxnSpPr>
            <p:nvPr/>
          </p:nvCxnSpPr>
          <p:spPr>
            <a:xfrm>
              <a:off x="4625640" y="172692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92" idx="0"/>
            </p:cNvCxnSpPr>
            <p:nvPr/>
          </p:nvCxnSpPr>
          <p:spPr>
            <a:xfrm>
              <a:off x="4626000" y="1726920"/>
              <a:ext cx="216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95" name=""/>
            <p:cNvCxnSpPr>
              <a:stCxn id="192" idx="0"/>
              <a:endCxn id="192" idx="0"/>
            </p:cNvCxnSpPr>
            <p:nvPr/>
          </p:nvCxnSpPr>
          <p:spPr>
            <a:xfrm>
              <a:off x="4625640" y="172692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96" name=""/>
            <p:cNvCxnSpPr>
              <a:stCxn id="192" idx="0"/>
              <a:endCxn id="192" idx="0"/>
            </p:cNvCxnSpPr>
            <p:nvPr/>
          </p:nvCxnSpPr>
          <p:spPr>
            <a:xfrm>
              <a:off x="4625640" y="172692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97" name=""/>
            <p:cNvCxnSpPr>
              <a:stCxn id="192" idx="0"/>
              <a:endCxn id="192" idx="0"/>
            </p:cNvCxnSpPr>
            <p:nvPr/>
          </p:nvCxnSpPr>
          <p:spPr>
            <a:xfrm>
              <a:off x="4625640" y="172692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98" name=""/>
            <p:cNvSpPr/>
            <p:nvPr/>
          </p:nvSpPr>
          <p:spPr>
            <a:xfrm>
              <a:off x="4632480" y="211788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72320" y="2232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3600" y="22550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98840" y="26010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0680" y="258768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0680" y="211320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70400" y="177552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491160" y="4646520"/>
            <a:ext cx="1414440" cy="549360"/>
          </a:xfrm>
          <a:prstGeom prst="flowChartProcess">
            <a:avLst/>
          </a:prstGeom>
          <a:solidFill>
            <a:srgbClr val="cc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-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223600">
            <a:off x="5143320" y="4160880"/>
            <a:ext cx="1430280" cy="612720"/>
          </a:xfrm>
          <a:prstGeom prst="leftRightArrow">
            <a:avLst>
              <a:gd name="adj1" fmla="val 50000"/>
              <a:gd name="adj2" fmla="val 46470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42080" y="2085480"/>
            <a:ext cx="1253880" cy="1213200"/>
            <a:chOff x="6742080" y="2085480"/>
            <a:chExt cx="1253880" cy="1213200"/>
          </a:xfrm>
        </p:grpSpPr>
        <p:sp>
          <p:nvSpPr>
            <p:cNvPr id="208" name=""/>
            <p:cNvSpPr/>
            <p:nvPr/>
          </p:nvSpPr>
          <p:spPr>
            <a:xfrm>
              <a:off x="6742080" y="2085840"/>
              <a:ext cx="1253880" cy="1212840"/>
            </a:xfrm>
            <a:prstGeom prst="flowChartProcess">
              <a:avLst/>
            </a:prstGeom>
            <a:solidFill>
              <a:srgbClr val="ff99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8" idx="0"/>
              <a:endCxn id="208" idx="0"/>
            </p:cNvCxnSpPr>
            <p:nvPr/>
          </p:nvCxnSpPr>
          <p:spPr>
            <a:xfrm>
              <a:off x="7368480" y="208548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208" idx="0"/>
            </p:cNvCxnSpPr>
            <p:nvPr/>
          </p:nvCxnSpPr>
          <p:spPr>
            <a:xfrm>
              <a:off x="7368480" y="2085840"/>
              <a:ext cx="2520" cy="216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8" idx="0"/>
              <a:endCxn id="208" idx="0"/>
            </p:cNvCxnSpPr>
            <p:nvPr/>
          </p:nvCxnSpPr>
          <p:spPr>
            <a:xfrm>
              <a:off x="7368480" y="208548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208" idx="0"/>
              <a:endCxn id="208" idx="0"/>
            </p:cNvCxnSpPr>
            <p:nvPr/>
          </p:nvCxnSpPr>
          <p:spPr>
            <a:xfrm>
              <a:off x="7368480" y="208548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208" idx="0"/>
              <a:endCxn id="208" idx="0"/>
            </p:cNvCxnSpPr>
            <p:nvPr/>
          </p:nvCxnSpPr>
          <p:spPr>
            <a:xfrm>
              <a:off x="7368480" y="208548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214" name=""/>
            <p:cNvSpPr/>
            <p:nvPr/>
          </p:nvSpPr>
          <p:spPr>
            <a:xfrm>
              <a:off x="7375320" y="247644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15160" y="2591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26440" y="2613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1680" y="29595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43520" y="294624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43520" y="247176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3240" y="213408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081240" y="6035400"/>
            <a:ext cx="1254240" cy="822600"/>
            <a:chOff x="3081240" y="6035400"/>
            <a:chExt cx="1254240" cy="822600"/>
          </a:xfrm>
        </p:grpSpPr>
        <p:sp>
          <p:nvSpPr>
            <p:cNvPr id="223" name=""/>
            <p:cNvSpPr/>
            <p:nvPr/>
          </p:nvSpPr>
          <p:spPr>
            <a:xfrm>
              <a:off x="3081240" y="6035760"/>
              <a:ext cx="1254240" cy="822240"/>
            </a:xfrm>
            <a:prstGeom prst="flowChartProcess">
              <a:avLst/>
            </a:prstGeom>
            <a:solidFill>
              <a:srgbClr val="ff99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23" idx="0"/>
              <a:endCxn id="223" idx="0"/>
            </p:cNvCxnSpPr>
            <p:nvPr/>
          </p:nvCxnSpPr>
          <p:spPr>
            <a:xfrm>
              <a:off x="370800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25" name=""/>
            <p:cNvCxnSpPr>
              <a:stCxn id="223" idx="0"/>
            </p:cNvCxnSpPr>
            <p:nvPr/>
          </p:nvCxnSpPr>
          <p:spPr>
            <a:xfrm>
              <a:off x="3708360" y="6035400"/>
              <a:ext cx="216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26" name=""/>
            <p:cNvCxnSpPr>
              <a:stCxn id="223" idx="0"/>
              <a:endCxn id="223" idx="0"/>
            </p:cNvCxnSpPr>
            <p:nvPr/>
          </p:nvCxnSpPr>
          <p:spPr>
            <a:xfrm>
              <a:off x="370800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223" idx="0"/>
              <a:endCxn id="223" idx="0"/>
            </p:cNvCxnSpPr>
            <p:nvPr/>
          </p:nvCxnSpPr>
          <p:spPr>
            <a:xfrm>
              <a:off x="370800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28" name=""/>
            <p:cNvCxnSpPr>
              <a:stCxn id="223" idx="0"/>
              <a:endCxn id="223" idx="0"/>
            </p:cNvCxnSpPr>
            <p:nvPr/>
          </p:nvCxnSpPr>
          <p:spPr>
            <a:xfrm>
              <a:off x="3708000" y="60354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3714840" y="603576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6150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65960" y="6172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81200" y="6518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83040" y="650556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431E-B99A-4A8B-BB71-5A3FA07F10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629400" y="2451240"/>
            <a:ext cx="2514600" cy="129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629400" y="3749760"/>
            <a:ext cx="2514600" cy="1299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629400" y="5049720"/>
            <a:ext cx="2514600" cy="874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12800" y="310320"/>
            <a:ext cx="63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Network Attached Storag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7360" y="10054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tandard with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48440" y="1005480"/>
            <a:ext cx="26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04200" y="656784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43440" y="1442880"/>
            <a:ext cx="0" cy="51958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99360" y="4727520"/>
            <a:ext cx="1154160" cy="476280"/>
          </a:xfrm>
          <a:prstGeom prst="flowChartProcess">
            <a:avLst/>
          </a:prstGeom>
          <a:solidFill>
            <a:srgbClr val="ff99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M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771560" y="5105520"/>
            <a:ext cx="1314720" cy="639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71560" y="5745240"/>
            <a:ext cx="131472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1771560" y="6384960"/>
            <a:ext cx="1314720" cy="42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183040" y="282636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x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58840" y="2724120"/>
            <a:ext cx="151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, FDD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M, 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5160" y="3384720"/>
            <a:ext cx="1347840" cy="523800"/>
          </a:xfrm>
          <a:prstGeom prst="flowChartProcess">
            <a:avLst/>
          </a:prstGeom>
          <a:solidFill>
            <a:srgbClr val="cc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FS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2633760" y="1411200"/>
            <a:ext cx="1041480" cy="538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2633760" y="1949400"/>
            <a:ext cx="1041480" cy="538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2633760" y="2487600"/>
            <a:ext cx="1041480" cy="3636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3978360" y="1557000"/>
            <a:ext cx="1253880" cy="1213200"/>
            <a:chOff x="3978360" y="1557000"/>
            <a:chExt cx="1253880" cy="1213200"/>
          </a:xfrm>
        </p:grpSpPr>
        <p:sp>
          <p:nvSpPr>
            <p:cNvPr id="254" name=""/>
            <p:cNvSpPr/>
            <p:nvPr/>
          </p:nvSpPr>
          <p:spPr>
            <a:xfrm>
              <a:off x="3978360" y="1557360"/>
              <a:ext cx="1253880" cy="1212840"/>
            </a:xfrm>
            <a:prstGeom prst="flowChartProcess">
              <a:avLst/>
            </a:prstGeom>
            <a:solidFill>
              <a:srgbClr val="cc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0"/>
              <a:endCxn id="254" idx="0"/>
            </p:cNvCxnSpPr>
            <p:nvPr/>
          </p:nvCxnSpPr>
          <p:spPr>
            <a:xfrm>
              <a:off x="4604760" y="15570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4" idx="0"/>
            </p:cNvCxnSpPr>
            <p:nvPr/>
          </p:nvCxnSpPr>
          <p:spPr>
            <a:xfrm>
              <a:off x="4604760" y="1557000"/>
              <a:ext cx="180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4" idx="0"/>
              <a:endCxn id="254" idx="0"/>
            </p:cNvCxnSpPr>
            <p:nvPr/>
          </p:nvCxnSpPr>
          <p:spPr>
            <a:xfrm>
              <a:off x="4604760" y="15570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58" name=""/>
            <p:cNvCxnSpPr>
              <a:stCxn id="254" idx="0"/>
              <a:endCxn id="254" idx="0"/>
            </p:cNvCxnSpPr>
            <p:nvPr/>
          </p:nvCxnSpPr>
          <p:spPr>
            <a:xfrm>
              <a:off x="4604760" y="15570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54" idx="0"/>
              <a:endCxn id="254" idx="0"/>
            </p:cNvCxnSpPr>
            <p:nvPr/>
          </p:nvCxnSpPr>
          <p:spPr>
            <a:xfrm>
              <a:off x="4604760" y="15570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260" name=""/>
            <p:cNvSpPr/>
            <p:nvPr/>
          </p:nvSpPr>
          <p:spPr>
            <a:xfrm>
              <a:off x="4611600" y="194796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51440" y="20628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62360" y="208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77600" y="24310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79800" y="2417760"/>
              <a:ext cx="1220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79800" y="1943280"/>
              <a:ext cx="1220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49520" y="160560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881520" y="4648320"/>
            <a:ext cx="1463760" cy="963360"/>
          </a:xfrm>
          <a:prstGeom prst="flowChartProcess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e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edir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352200">
            <a:off x="3840120" y="3525480"/>
            <a:ext cx="3508560" cy="612720"/>
          </a:xfrm>
          <a:prstGeom prst="leftRightArrow">
            <a:avLst>
              <a:gd name="adj1" fmla="val 44556"/>
              <a:gd name="adj2" fmla="val 83189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18000" y="4630680"/>
            <a:ext cx="1756080" cy="612720"/>
          </a:xfrm>
          <a:prstGeom prst="leftRightArrow">
            <a:avLst>
              <a:gd name="adj1" fmla="val 44037"/>
              <a:gd name="adj2" fmla="val 46122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21400" y="3767040"/>
            <a:ext cx="1154160" cy="476280"/>
          </a:xfrm>
          <a:prstGeom prst="flowChartProcess">
            <a:avLst/>
          </a:prstGeom>
          <a:solidFill>
            <a:srgbClr val="ff99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F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355920" y="5860800"/>
            <a:ext cx="1254240" cy="822600"/>
            <a:chOff x="3355920" y="5860800"/>
            <a:chExt cx="1254240" cy="822600"/>
          </a:xfrm>
        </p:grpSpPr>
        <p:sp>
          <p:nvSpPr>
            <p:cNvPr id="273" name=""/>
            <p:cNvSpPr/>
            <p:nvPr/>
          </p:nvSpPr>
          <p:spPr>
            <a:xfrm>
              <a:off x="3355920" y="5861160"/>
              <a:ext cx="1254240" cy="822240"/>
            </a:xfrm>
            <a:prstGeom prst="flowChartProcess">
              <a:avLst/>
            </a:prstGeom>
            <a:solidFill>
              <a:srgbClr val="ff99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3" idx="0"/>
              <a:endCxn id="273" idx="0"/>
            </p:cNvCxnSpPr>
            <p:nvPr/>
          </p:nvCxnSpPr>
          <p:spPr>
            <a:xfrm>
              <a:off x="3982680" y="58608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75" name=""/>
            <p:cNvCxnSpPr>
              <a:stCxn id="273" idx="0"/>
            </p:cNvCxnSpPr>
            <p:nvPr/>
          </p:nvCxnSpPr>
          <p:spPr>
            <a:xfrm>
              <a:off x="3983040" y="5860800"/>
              <a:ext cx="2160" cy="252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76" name=""/>
            <p:cNvCxnSpPr>
              <a:stCxn id="273" idx="0"/>
              <a:endCxn id="273" idx="0"/>
            </p:cNvCxnSpPr>
            <p:nvPr/>
          </p:nvCxnSpPr>
          <p:spPr>
            <a:xfrm>
              <a:off x="3982680" y="58608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77" name=""/>
            <p:cNvCxnSpPr>
              <a:stCxn id="273" idx="0"/>
              <a:endCxn id="273" idx="0"/>
            </p:cNvCxnSpPr>
            <p:nvPr/>
          </p:nvCxnSpPr>
          <p:spPr>
            <a:xfrm>
              <a:off x="3982680" y="58608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278" name=""/>
            <p:cNvCxnSpPr>
              <a:stCxn id="273" idx="0"/>
              <a:endCxn id="273" idx="0"/>
            </p:cNvCxnSpPr>
            <p:nvPr/>
          </p:nvCxnSpPr>
          <p:spPr>
            <a:xfrm>
              <a:off x="3982680" y="5860800"/>
              <a:ext cx="1080" cy="1080"/>
            </a:xfrm>
            <a:prstGeom prst="straightConnector1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279" name=""/>
            <p:cNvSpPr/>
            <p:nvPr/>
          </p:nvSpPr>
          <p:spPr>
            <a:xfrm>
              <a:off x="3989520" y="5861160"/>
              <a:ext cx="0" cy="46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360" y="59760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40640" y="5998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55880" y="63442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7720" y="6330960"/>
              <a:ext cx="1220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FDDB-DE4D-42CB-8EBF-4970310DF3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756160" y="51480"/>
            <a:ext cx="506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Comparison of SMB &amp; 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3720" y="1294920"/>
            <a:ext cx="356076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spcAft>
                <a:spcPts val="601"/>
              </a:spcAft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NFS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PC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ransparent to Uni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s can access NFS 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51000" y="1288440"/>
            <a:ext cx="306396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spcAft>
                <a:spcPts val="601"/>
              </a:spcAft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rve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ranspare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/PC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s can only ac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fc0128"/>
              </a:buClr>
              <a:buFont typeface="Symbol" charset="2"/>
              <a:buChar char="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1E1C-BE0F-4D91-AAEB-D3BBB0B78C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317040" y="51480"/>
            <a:ext cx="39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SMB &amp; NFS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ecece"/>
                </a:solidFill>
                <a:latin typeface="Times New Roman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661400"/>
            <a:ext cx="19130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roduction to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Comparison of SMB and N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MB - Under the H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earCase in a Mixe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 in a ClearCas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210000"/>
              </a:lnSpc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21280" y="1288440"/>
            <a:ext cx="322272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spcAft>
                <a:spcPts val="601"/>
              </a:spcAft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NFS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to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o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81160" y="1296360"/>
            <a:ext cx="372420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spcAft>
                <a:spcPts val="601"/>
              </a:spcAft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ful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ech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to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e85e00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ing built-in - na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Aft>
                <a:spcPts val="601"/>
              </a:spcAft>
              <a:buClr>
                <a:srgbClr val="fc0128"/>
              </a:buClr>
              <a:buFont typeface="Symbol" charset="2"/>
              <a:buChar char="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760" y="120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4AE0-1FDE-4B1F-9EB5-638FDEEEA9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6T20:29:56Z</dcterms:created>
  <dc:creator>Roger Franklin</dc:creator>
  <dc:description/>
  <dc:language>en-US</dc:language>
  <cp:lastModifiedBy>Rob Bradbury</cp:lastModifiedBy>
  <cp:lastPrinted>2000-09-18T20:29:31Z</cp:lastPrinted>
  <dcterms:modified xsi:type="dcterms:W3CDTF">2000-09-22T17:03:31Z</dcterms:modified>
  <cp:revision>953</cp:revision>
  <dc:subject/>
  <dc:title>The Team That Wins Together</dc:title>
</cp:coreProperties>
</file>