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244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180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244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A868-46AA-4041-9859-D2B7969B7B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2913-23E7-4602-A0FE-02FA7A4F66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7A3B-EDD4-4864-B08D-7C92CE2007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293F-084B-4A5C-8200-35E4CB2CBA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550F-2DAF-43A0-BC4D-81755F7BC2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7480" y="123840"/>
            <a:ext cx="8999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2A67-0270-46FE-A33A-B7C332D825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C38B-A2E0-4A0F-80B4-0D342FCE43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F3A2-195D-4E55-8F42-0E2FAB0598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6814-3C7B-435D-98DD-A4789C2700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9E90-1296-45F9-9A33-77E9668CEC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6D32-E2C3-4405-A50C-12B6478D60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244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272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180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244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272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7E76-54CD-4F01-A167-10F3775E8E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7480" y="123840"/>
            <a:ext cx="8999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6195960" y="833400"/>
          <a:ext cx="2948040" cy="602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95960" y="833400"/>
                    <a:ext cx="294804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1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20024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5"/>
          <a:stretch/>
        </p:blipFill>
        <p:spPr>
          <a:xfrm>
            <a:off x="6724800" y="6021360"/>
            <a:ext cx="2217600" cy="642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716040"/>
            <a:ext cx="9144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3200" y="6682680"/>
            <a:ext cx="23860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1998, 1999 Rational Software Corporation - All rights reserved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0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21080"/>
            <a:ext cx="5972040" cy="229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960" y="2603160"/>
            <a:ext cx="55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819760" y="-360"/>
            <a:ext cx="3324240" cy="6946920"/>
            <a:chOff x="5819760" y="-360"/>
            <a:chExt cx="3324240" cy="6946920"/>
          </a:xfrm>
        </p:grpSpPr>
        <p:grpSp>
          <p:nvGrpSpPr>
            <p:cNvPr id="47" name=""/>
            <p:cNvGrpSpPr/>
            <p:nvPr/>
          </p:nvGrpSpPr>
          <p:grpSpPr>
            <a:xfrm>
              <a:off x="5819760" y="-360"/>
              <a:ext cx="3324240" cy="6946920"/>
              <a:chOff x="5819760" y="-360"/>
              <a:chExt cx="3324240" cy="6946920"/>
            </a:xfrm>
          </p:grpSpPr>
          <p:sp>
            <p:nvSpPr>
              <p:cNvPr id="48" name=""/>
              <p:cNvSpPr/>
              <p:nvPr/>
            </p:nvSpPr>
            <p:spPr>
              <a:xfrm flipH="1" flipV="1">
                <a:off x="6337440" y="-360"/>
                <a:ext cx="2806560" cy="69469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" name=""/>
              <p:cNvGrpSpPr/>
              <p:nvPr/>
            </p:nvGrpSpPr>
            <p:grpSpPr>
              <a:xfrm>
                <a:off x="5819760" y="1352520"/>
                <a:ext cx="2806560" cy="4318200"/>
                <a:chOff x="5819760" y="1352520"/>
                <a:chExt cx="2806560" cy="4318200"/>
              </a:xfrm>
            </p:grpSpPr>
            <p:pic>
              <p:nvPicPr>
                <p:cNvPr id="50" name="mountainmain%20copy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19760" y="1352520"/>
                  <a:ext cx="2806560" cy="4318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FINAL%20RUC.Logo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981760" y="1538280"/>
                  <a:ext cx="2492280" cy="3921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2" name=""/>
            <p:cNvSpPr/>
            <p:nvPr/>
          </p:nvSpPr>
          <p:spPr>
            <a:xfrm>
              <a:off x="5975280" y="4095720"/>
              <a:ext cx="0" cy="142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sldNum" idx="1"/>
          </p:nvPr>
        </p:nvSpPr>
        <p:spPr>
          <a:xfrm>
            <a:off x="201600" y="6049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6699ff"/>
                </a:solidFill>
                <a:latin typeface="Arial Narrow"/>
              </a:defRPr>
            </a:lvl1pPr>
          </a:lstStyle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 Narrow"/>
              </a:rPr>
              <a:t>Sess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fld id="{982D0A69-D9F4-4F21-89F1-C83DB1013A99}" type="slidenum">
              <a:rPr b="1" lang="en-US" sz="20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200" y="6682680"/>
            <a:ext cx="23860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1998, 1999 Rational Software Corporation - All rights reserved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914400" indent="5724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0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0960" y="2603160"/>
            <a:ext cx="55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SCM AND THE CAPABILITY MATURITY MODEL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3280" y="3525480"/>
            <a:ext cx="557856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zz G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ci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9880" y="6234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 Narrow"/>
              </a:rPr>
              <a:t>CCM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A Brief History of the CMM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8000"/>
          </a:bodyPr>
          <a:p>
            <a:pPr marL="447840" indent="-44784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Quality is Fre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Philip Crosby, McGraw-Hill 1979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84080" indent="-22392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Quality Management Maturity Grid: Five evolutionary stages in adopting quality practic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47840" indent="-44784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dopted by Watts Humphrey at IB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atts Humphrey moved to SEI in 1986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84080" indent="-22392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Used questionnaires to refine model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47840" indent="-44784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Managing the Software Proces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Watts Humphrey, Addison-Wesley 1989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M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Version 1.1, SEI 1993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tructure of the CMM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2080" y="1168200"/>
            <a:ext cx="8489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ve leve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ssessment proce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2343240" y="5470200"/>
            <a:ext cx="1191960" cy="517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63760" y="4441680"/>
            <a:ext cx="1198800" cy="517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pea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89320" y="3412800"/>
            <a:ext cx="1171800" cy="517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87880" y="2384280"/>
            <a:ext cx="1157400" cy="517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na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72040" y="1355400"/>
            <a:ext cx="1143000" cy="517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timiz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3960" y="4761000"/>
            <a:ext cx="628920" cy="573120"/>
          </a:xfrm>
          <a:custGeom>
            <a:avLst/>
            <a:gdLst/>
            <a:ahLst/>
            <a:rect l="l" t="t" r="r" b="b"/>
            <a:pathLst>
              <a:path w="396" h="361">
                <a:moveTo>
                  <a:pt x="0" y="361"/>
                </a:moveTo>
                <a:cubicBezTo>
                  <a:pt x="6" y="321"/>
                  <a:pt x="9" y="178"/>
                  <a:pt x="36" y="121"/>
                </a:cubicBezTo>
                <a:cubicBezTo>
                  <a:pt x="63" y="64"/>
                  <a:pt x="102" y="38"/>
                  <a:pt x="162" y="19"/>
                </a:cubicBezTo>
                <a:cubicBezTo>
                  <a:pt x="222" y="0"/>
                  <a:pt x="347" y="9"/>
                  <a:pt x="396" y="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57440" y="3722760"/>
            <a:ext cx="628920" cy="573120"/>
          </a:xfrm>
          <a:custGeom>
            <a:avLst/>
            <a:gdLst/>
            <a:ahLst/>
            <a:rect l="l" t="t" r="r" b="b"/>
            <a:pathLst>
              <a:path w="396" h="361">
                <a:moveTo>
                  <a:pt x="0" y="361"/>
                </a:moveTo>
                <a:cubicBezTo>
                  <a:pt x="6" y="321"/>
                  <a:pt x="9" y="178"/>
                  <a:pt x="36" y="121"/>
                </a:cubicBezTo>
                <a:cubicBezTo>
                  <a:pt x="63" y="64"/>
                  <a:pt x="102" y="38"/>
                  <a:pt x="162" y="19"/>
                </a:cubicBezTo>
                <a:cubicBezTo>
                  <a:pt x="222" y="0"/>
                  <a:pt x="347" y="9"/>
                  <a:pt x="396" y="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62480" y="2693880"/>
            <a:ext cx="628560" cy="573120"/>
          </a:xfrm>
          <a:custGeom>
            <a:avLst/>
            <a:gdLst/>
            <a:ahLst/>
            <a:rect l="l" t="t" r="r" b="b"/>
            <a:pathLst>
              <a:path w="396" h="361">
                <a:moveTo>
                  <a:pt x="0" y="361"/>
                </a:moveTo>
                <a:cubicBezTo>
                  <a:pt x="6" y="321"/>
                  <a:pt x="9" y="178"/>
                  <a:pt x="36" y="121"/>
                </a:cubicBezTo>
                <a:cubicBezTo>
                  <a:pt x="63" y="64"/>
                  <a:pt x="102" y="38"/>
                  <a:pt x="162" y="19"/>
                </a:cubicBezTo>
                <a:cubicBezTo>
                  <a:pt x="222" y="0"/>
                  <a:pt x="347" y="9"/>
                  <a:pt x="396" y="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38720" y="1674720"/>
            <a:ext cx="628560" cy="573120"/>
          </a:xfrm>
          <a:custGeom>
            <a:avLst/>
            <a:gdLst/>
            <a:ahLst/>
            <a:rect l="l" t="t" r="r" b="b"/>
            <a:pathLst>
              <a:path w="396" h="361">
                <a:moveTo>
                  <a:pt x="0" y="361"/>
                </a:moveTo>
                <a:cubicBezTo>
                  <a:pt x="6" y="321"/>
                  <a:pt x="9" y="178"/>
                  <a:pt x="36" y="121"/>
                </a:cubicBezTo>
                <a:cubicBezTo>
                  <a:pt x="63" y="64"/>
                  <a:pt x="102" y="38"/>
                  <a:pt x="162" y="19"/>
                </a:cubicBezTo>
                <a:cubicBezTo>
                  <a:pt x="222" y="0"/>
                  <a:pt x="347" y="9"/>
                  <a:pt x="396" y="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Level 1. Initial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7000"/>
          </a:bodyPr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software process is characterized as ad hoc, and occasionally even chaotic.  Few processes are defined, and success depends on individual effort.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aos: small change in input conditions can lead to disproportionate change in output condition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igh coupling and many “feedback loops.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reater risk (but greater reward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ow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reproducibility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qual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Most software development groups are at level 1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Level 2. Repeatable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ic project management processes are established to track cost, schedule, and functionality. The necessary process discipline is in place to repeat earlier successes on projects with similar applications.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ll-established, disciplined cultur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verybody does things pretty much the same wa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ic software management contro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pendence on local expert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Level 3. Defined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software process for both management and engineering activities is documented, standardized, and integrated into a standard software process for the organization.  All projects use an approved, tailored version of the organization’s standard software process for developing and maintaining software.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ftware Engineering Process Group exist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Level 4. Managed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tailed measures of the software process and product quality are collected.  Both the software process and products are quantitatively understood and controlled.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Level 5. Optimizing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inuous process improvement is enabled by quanititative feedback from the process and from piloting innovative ideas and technologies.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l defects are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oces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defec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Key Process Area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7000"/>
          </a:bodyPr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ach level (except level 1) defines Key Process Areas (KPA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move from level n-1 to level n, concentrate on KPAs for level n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n’t skip leve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76160" indent="-2214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oncentrate on the KPAs for the next level only, otherwise you rapidly reach the point of diminishing return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ost organizations are at level 1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I’ll concentrate on level 2 KPAs, particularly SC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Key Process Area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1486080" y="6057360"/>
            <a:ext cx="1191960" cy="258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itial (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2920" y="4617000"/>
            <a:ext cx="3265560" cy="1243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peatable (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ftware configur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ftware quality assur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ftware subcontrac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ftware project tracking and over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ftware project pla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quirement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13040" y="2999880"/>
            <a:ext cx="3095640" cy="1407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fined (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er review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group coordi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ftware product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ated softwar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ining progr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ation process defin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ation process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64240" y="2186280"/>
            <a:ext cx="3281040" cy="586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naged (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ftware qualit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ntitative proces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1229760"/>
            <a:ext cx="2667240" cy="750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timizing (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ess chang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chnology chang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ct preven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0400" y="5275440"/>
            <a:ext cx="628920" cy="572760"/>
          </a:xfrm>
          <a:custGeom>
            <a:avLst/>
            <a:gdLst/>
            <a:ahLst/>
            <a:rect l="l" t="t" r="r" b="b"/>
            <a:pathLst>
              <a:path w="396" h="361">
                <a:moveTo>
                  <a:pt x="0" y="361"/>
                </a:moveTo>
                <a:cubicBezTo>
                  <a:pt x="6" y="321"/>
                  <a:pt x="9" y="178"/>
                  <a:pt x="36" y="121"/>
                </a:cubicBezTo>
                <a:cubicBezTo>
                  <a:pt x="63" y="64"/>
                  <a:pt x="102" y="38"/>
                  <a:pt x="162" y="19"/>
                </a:cubicBezTo>
                <a:cubicBezTo>
                  <a:pt x="222" y="0"/>
                  <a:pt x="347" y="9"/>
                  <a:pt x="396" y="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46560" y="1484280"/>
            <a:ext cx="628920" cy="573120"/>
          </a:xfrm>
          <a:custGeom>
            <a:avLst/>
            <a:gdLst/>
            <a:ahLst/>
            <a:rect l="l" t="t" r="r" b="b"/>
            <a:pathLst>
              <a:path w="396" h="361">
                <a:moveTo>
                  <a:pt x="0" y="361"/>
                </a:moveTo>
                <a:cubicBezTo>
                  <a:pt x="6" y="321"/>
                  <a:pt x="9" y="178"/>
                  <a:pt x="36" y="121"/>
                </a:cubicBezTo>
                <a:cubicBezTo>
                  <a:pt x="63" y="64"/>
                  <a:pt x="102" y="38"/>
                  <a:pt x="162" y="19"/>
                </a:cubicBezTo>
                <a:cubicBezTo>
                  <a:pt x="222" y="0"/>
                  <a:pt x="347" y="9"/>
                  <a:pt x="396" y="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36880" y="3855960"/>
            <a:ext cx="628560" cy="573120"/>
          </a:xfrm>
          <a:custGeom>
            <a:avLst/>
            <a:gdLst/>
            <a:ahLst/>
            <a:rect l="l" t="t" r="r" b="b"/>
            <a:pathLst>
              <a:path w="396" h="361">
                <a:moveTo>
                  <a:pt x="0" y="361"/>
                </a:moveTo>
                <a:cubicBezTo>
                  <a:pt x="6" y="321"/>
                  <a:pt x="9" y="178"/>
                  <a:pt x="36" y="121"/>
                </a:cubicBezTo>
                <a:cubicBezTo>
                  <a:pt x="63" y="64"/>
                  <a:pt x="102" y="38"/>
                  <a:pt x="162" y="19"/>
                </a:cubicBezTo>
                <a:cubicBezTo>
                  <a:pt x="222" y="0"/>
                  <a:pt x="347" y="9"/>
                  <a:pt x="396" y="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46400" y="2313000"/>
            <a:ext cx="628920" cy="573120"/>
          </a:xfrm>
          <a:custGeom>
            <a:avLst/>
            <a:gdLst/>
            <a:ahLst/>
            <a:rect l="l" t="t" r="r" b="b"/>
            <a:pathLst>
              <a:path w="396" h="361">
                <a:moveTo>
                  <a:pt x="0" y="361"/>
                </a:moveTo>
                <a:cubicBezTo>
                  <a:pt x="6" y="321"/>
                  <a:pt x="9" y="178"/>
                  <a:pt x="36" y="121"/>
                </a:cubicBezTo>
                <a:cubicBezTo>
                  <a:pt x="63" y="64"/>
                  <a:pt x="102" y="38"/>
                  <a:pt x="162" y="19"/>
                </a:cubicBezTo>
                <a:cubicBezTo>
                  <a:pt x="222" y="0"/>
                  <a:pt x="347" y="9"/>
                  <a:pt x="396" y="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Requirements Mgm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evel 2 Key Process Are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stablish a common understanding between the customer and the software project of the customer’s requirements…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ustomer” could be marketing, engineering, etc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Documented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ontroll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hange control including review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hanges feed into other plans, products and activities.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Overview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claim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cess Improv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pability Maturity Mod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CM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oftware Project Planning 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evel 2 KP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establish reasonable plans for performing the software engineering and for managing the software project.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velop estimat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stablish commitm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fine the pla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oftware Project Tracking &amp; Oversight 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evel 2 KP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provide adequate visibility into actual progress so that management can take effective actions when the software project’s performance deviates significantly from the software plans.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racking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review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oftware Subcontract Managemen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evel 2 KP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select qualified software subcontractors and manage them effectively.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stablishing commitm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acking and review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oftware Quality Assurance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evel 2 KP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provide management with appropriate visibility into the process being used by the software project and of the products being built.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QA grou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viewing and auditing products and activiti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erify other KPA implementa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oftware Configuration Managemen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7000"/>
          </a:bodyPr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evel 2 KP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establish and maintain the integrity of the products of the software project throughout the project’s life cycle.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reate regular baselines &amp; control change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reate external &amp; internal products from baselin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rol source, tools, documents (including Requirements Documen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CCB and SCM grou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oftware Configuration Managemen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ftware Change Control Boar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uthorize creation of baselines/changes to baselines (baseline(n+1) = baseline(n) + δ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Arial Narrow"/>
              </a:rPr>
              <a:t>n+1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Represents groups that may be affected by chang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engine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engine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Q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oftware Configuration Managemen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ftware Configuration Management Grou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anage repository (Clearcase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Decide how to control access to Clearcas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anage access to Clearcas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Decide what is controlled in Clearcase (e.g. tools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oordinate chang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Build baseline product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rovide documentation &amp; training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What Does This Mean To You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ftware Development Manag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 quantifiable model for process improvemen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The basis for a multi-year plan for improving predictability and quality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 guide to which areas in the current organization need attention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 more meaningful way to approach ISO 9000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ontact SEI for details on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Arial Narrow"/>
              </a:rPr>
              <a:t>assessments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What Does This Mean To You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CM/SQA Engine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 context to develop tools in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guerrilla process improvement” using the C/P/A feedback loop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n understanding of which direction things should be moving in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n understanding of the relationships between different parts of the projec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ome Specific SCM Improvement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CM Plan (activities 1 &amp; 2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Take a look at IEEE 1042-1987, IEEE 828-1990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Don’t go overboard, especially in a truly level 1 organization.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Goal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roduce CMU Software Engineering Institute’s Capability Maturity Mode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vide a framework for introducing tools and automation to a development group with the emphasis on SC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ist some specific improvements that can be made using Clearcase &amp; ClearDD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mprove Software Engineering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ome Specific Improvements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pository (activity 3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Get Clearcase!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dentify what needs to be controlled (activity 4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Get everything under control (Build model principles!):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 code, tools, compilers, makefile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Get a handle on tools that live outside Clearcas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Documents &amp; etc.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ome Specific Improvements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ange control (activities 5 &amp; 6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Get ClearDDTS!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Integrate with Clearcas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1200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 from individual checkins to sets of checkins to submits to DDTS e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Generate reports &amp; evolve DDTS process to support an SCCB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Define baselines in terms of DDTS entri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ome Specific Improvements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uild and manage releases (activity 7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ush to have baseline definition role clearly defined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Get build system under complete control (Build model principles!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utomate the hell out of building baselin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tore released baselines in a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Arial Narrow"/>
              </a:rPr>
              <a:t>release management system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 (e.g. a box of tapes and a web page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ack history &amp; status (activity 8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Get Clearcase!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ome Specific Improvements (cont)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2000"/>
          </a:bodyPr>
          <a:p>
            <a:pPr marL="420480" indent="-42048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ther idea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Get ‘em while they’re young - volunteer to sit with new hires, and give lunch time presentation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Training 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ake tools as self-documenting as possibl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Web-based documentation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Quick reference cards (with real examples)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void big heavy manual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Enforce all branches based on a baselin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736200" indent="-21024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anage branches.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Q&amp;A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Disclaimer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 am not going to teach you the CM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 can not and will not teach you the CM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 don’t have time to teach you the CM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atever I say about the CM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, don’t believe 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f you go back to your company and try to use what I present (without referring to the real CM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) and it messes everything up and the company ends up going bankrupt, don’t blame m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For Real CMM Informa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5000"/>
          </a:bodyPr>
          <a:p>
            <a:pPr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r real information about the CM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68680" indent="-59688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Arial Narrow"/>
              </a:rPr>
              <a:t>Capability Maturity Model</a:t>
            </a:r>
            <a:r>
              <a:rPr b="0" i="1" lang="en-US" sz="2800" spc="-1" strike="noStrike" baseline="30000">
                <a:solidFill>
                  <a:srgbClr val="dddddd"/>
                </a:solidFill>
                <a:latin typeface="Arial Narrow"/>
              </a:rPr>
              <a:t>®</a:t>
            </a:r>
            <a:r>
              <a:rPr b="0" i="1" lang="en-US" sz="2800" spc="-1" strike="noStrike">
                <a:solidFill>
                  <a:srgbClr val="dddddd"/>
                </a:solidFill>
                <a:latin typeface="Arial Narrow"/>
              </a:rPr>
              <a:t> for Software, Version 1.1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, CMU/SEI-93-TR-24 and </a:t>
            </a:r>
            <a:r>
              <a:rPr b="0" i="1" lang="en-US" sz="2800" spc="-1" strike="noStrike">
                <a:solidFill>
                  <a:srgbClr val="dddddd"/>
                </a:solidFill>
                <a:latin typeface="Arial Narrow"/>
              </a:rPr>
              <a:t>Key Practices of the Capability Maturity Model for Software, Version 1.1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, CMU/SEI-93-TR-25, both © 1993 by Carnegie Mellon University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68680" indent="-59688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http://www.sei.cmu.edu/activities/cmm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68680" indent="-59688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Arial Narrow"/>
              </a:rPr>
              <a:t>The Capability Maturity Model, Guidelines for Improving the Software Process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 CMU/SEI, Addison-Wesley 1994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indent="0">
              <a:lnSpc>
                <a:spcPct val="87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7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pability Maturity Mod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and C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are registered trademarks of Carnegie Mellon University.  All uses of copyrighted material in this presentation are made under the Fair Use statute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7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Process Improvemen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977280"/>
            <a:ext cx="4238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ultu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= what people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624920"/>
            <a:ext cx="4400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ces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= codified 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272560"/>
            <a:ext cx="5867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utomation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= implemented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47920" y="245988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76840" y="3469680"/>
            <a:ext cx="16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14788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86360" y="1666800"/>
            <a:ext cx="1552320" cy="704880"/>
          </a:xfrm>
          <a:custGeom>
            <a:avLst/>
            <a:gdLst/>
            <a:ahLst/>
            <a:rect l="l" t="t" r="r" b="b"/>
            <a:pathLst>
              <a:path w="978" h="366">
                <a:moveTo>
                  <a:pt x="0" y="366"/>
                </a:moveTo>
                <a:cubicBezTo>
                  <a:pt x="128" y="255"/>
                  <a:pt x="257" y="145"/>
                  <a:pt x="420" y="84"/>
                </a:cubicBezTo>
                <a:cubicBezTo>
                  <a:pt x="583" y="23"/>
                  <a:pt x="780" y="11"/>
                  <a:pt x="978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4380840" y="1923480"/>
            <a:ext cx="1552680" cy="733320"/>
          </a:xfrm>
          <a:custGeom>
            <a:avLst/>
            <a:gdLst/>
            <a:ahLst/>
            <a:rect l="l" t="t" r="r" b="b"/>
            <a:pathLst>
              <a:path w="978" h="366">
                <a:moveTo>
                  <a:pt x="0" y="366"/>
                </a:moveTo>
                <a:cubicBezTo>
                  <a:pt x="128" y="255"/>
                  <a:pt x="257" y="145"/>
                  <a:pt x="420" y="84"/>
                </a:cubicBezTo>
                <a:cubicBezTo>
                  <a:pt x="583" y="23"/>
                  <a:pt x="780" y="11"/>
                  <a:pt x="978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91200" y="1895400"/>
            <a:ext cx="500040" cy="1552680"/>
          </a:xfrm>
          <a:custGeom>
            <a:avLst/>
            <a:gdLst/>
            <a:ahLst/>
            <a:rect l="l" t="t" r="r" b="b"/>
            <a:pathLst>
              <a:path w="315" h="978">
                <a:moveTo>
                  <a:pt x="0" y="0"/>
                </a:moveTo>
                <a:cubicBezTo>
                  <a:pt x="51" y="82"/>
                  <a:pt x="297" y="329"/>
                  <a:pt x="306" y="492"/>
                </a:cubicBezTo>
                <a:cubicBezTo>
                  <a:pt x="315" y="655"/>
                  <a:pt x="106" y="877"/>
                  <a:pt x="54" y="97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86360" y="2895480"/>
            <a:ext cx="1504800" cy="771480"/>
          </a:xfrm>
          <a:custGeom>
            <a:avLst/>
            <a:gdLst/>
            <a:ahLst/>
            <a:rect l="l" t="t" r="r" b="b"/>
            <a:pathLst>
              <a:path w="948" h="486">
                <a:moveTo>
                  <a:pt x="948" y="486"/>
                </a:moveTo>
                <a:cubicBezTo>
                  <a:pt x="858" y="465"/>
                  <a:pt x="566" y="441"/>
                  <a:pt x="408" y="360"/>
                </a:cubicBezTo>
                <a:cubicBezTo>
                  <a:pt x="250" y="279"/>
                  <a:pt x="85" y="75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380840" y="1923480"/>
            <a:ext cx="1552680" cy="733320"/>
          </a:xfrm>
          <a:custGeom>
            <a:avLst/>
            <a:gdLst/>
            <a:ahLst/>
            <a:rect l="l" t="t" r="r" b="b"/>
            <a:pathLst>
              <a:path w="978" h="366">
                <a:moveTo>
                  <a:pt x="0" y="366"/>
                </a:moveTo>
                <a:cubicBezTo>
                  <a:pt x="128" y="255"/>
                  <a:pt x="257" y="145"/>
                  <a:pt x="420" y="84"/>
                </a:cubicBezTo>
                <a:cubicBezTo>
                  <a:pt x="583" y="23"/>
                  <a:pt x="780" y="11"/>
                  <a:pt x="978" y="0"/>
                </a:cubicBezTo>
              </a:path>
            </a:pathLst>
          </a:custGeom>
          <a:noFill/>
          <a:ln w="38160">
            <a:solidFill>
              <a:srgbClr val="0d052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/P/A Feedback Loop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roduce process improvem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roduce new concep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ke life easier and simpler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CM Example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itial Culture = people tend to work in a view, and checkin all files togeth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cess = checkin all related changes togeth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ol = submi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rompts for commen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records username, date/time, list of files checked in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ulture </a:t>
            </a:r>
            <a:r>
              <a:rPr b="0" lang="en-US" sz="3200" spc="-1" strike="noStrike">
                <a:solidFill>
                  <a:srgbClr val="ffffff"/>
                </a:solidFill>
                <a:latin typeface="ZapfDingbats"/>
                <a:ea typeface="ZapfDingbat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Work on a change in a view, then submit the chang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Process Improvement &amp; CMM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cess improvement must be in a contex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Arial Narrow"/>
              </a:rPr>
              <a:t>Improvement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 implies </a:t>
            </a:r>
            <a:r>
              <a:rPr b="0" i="1" lang="en-US" sz="2800" spc="-1" strike="noStrike">
                <a:solidFill>
                  <a:srgbClr val="dddddd"/>
                </a:solidFill>
                <a:latin typeface="Arial Narrow"/>
              </a:rPr>
              <a:t>better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M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provides that contex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...the model… is the basis for improving the software process.”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quantitative and qualititative framework for measuring software development organizations and processe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1T18:40:38Z</dcterms:created>
  <dc:creator>Steve Preston</dc:creator>
  <dc:description/>
  <dc:language>en-US</dc:language>
  <cp:lastModifiedBy>lgiles</cp:lastModifiedBy>
  <cp:lastPrinted>1999-03-11T20:13:22Z</cp:lastPrinted>
  <dcterms:modified xsi:type="dcterms:W3CDTF">1999-05-06T17:49:28Z</dcterms:modified>
  <cp:revision>85</cp:revision>
  <dc:subject>United World Tour</dc:subject>
  <dc:title>No Slide Title</dc:title>
</cp:coreProperties>
</file>