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2560" y="6060960"/>
            <a:ext cx="108820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25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289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2120" y="277344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11320" y="277344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2560" y="606096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32120" y="606096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11320" y="606096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C48-31E9-49F5-B00B-E1181B02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81F-7513-4037-89CA-20AA92F4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536-EEF7-4E3C-9C0E-789587DC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0C4-111A-4EC4-B53E-E9665B5A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68C-0CAC-45E7-B6C6-93FD5E28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52560" y="852120"/>
            <a:ext cx="108820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DD0-F975-4707-8071-4437E459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525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738-25ED-493E-A6C9-4E9A8ABE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89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1DA-0EC1-4837-B792-BDAB1B3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2560" y="6060960"/>
            <a:ext cx="108820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FBE-53C6-492F-981C-E2BBCF4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52560" y="6060960"/>
            <a:ext cx="108820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5E9-CC37-4A80-A7EE-470ED58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525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5289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2AF-37AB-49BA-861C-49794E5B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2120" y="277344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11320" y="277344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52560" y="606096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632120" y="606096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8311320" y="6060960"/>
            <a:ext cx="35038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22A-EDCC-4C96-AD38-A4D97AE7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2560" y="852120"/>
            <a:ext cx="108820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25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28960" y="606096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28960" y="2773440"/>
            <a:ext cx="531036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2560" y="6060960"/>
            <a:ext cx="10882080" cy="3002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2560" y="9282240"/>
            <a:ext cx="4910040" cy="315720"/>
          </a:xfrm>
          <a:prstGeom prst="rect">
            <a:avLst/>
          </a:prstGeom>
          <a:solidFill>
            <a:srgbClr val="96e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noAutofit/>
          </a:bodyPr>
          <a:p>
            <a:pPr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2000" y="1066680"/>
            <a:ext cx="11731680" cy="1067040"/>
          </a:xfrm>
          <a:prstGeom prst="rect">
            <a:avLst/>
          </a:prstGeom>
          <a:solidFill>
            <a:srgbClr val="96e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noAutofit/>
          </a:bodyPr>
          <a:p>
            <a:pPr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2239920" indent="-320760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881440" indent="-31932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881440" indent="-319320">
              <a:spcBef>
                <a:spcPts val="901"/>
              </a:spcBef>
              <a:buClr>
                <a:srgbClr val="000066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881440" indent="-319320">
              <a:spcBef>
                <a:spcPts val="901"/>
              </a:spcBef>
              <a:buClr>
                <a:srgbClr val="000066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06480" y="52560"/>
            <a:ext cx="4384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20040" y="9318600"/>
            <a:ext cx="744156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r>
              <a:rPr b="0" lang="en-US" sz="1800" spc="-1" strike="noStrike">
                <a:solidFill>
                  <a:srgbClr val="96e49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96e490"/>
                </a:solidFill>
                <a:latin typeface="Wingdings 2"/>
                <a:ea typeface="Wingdings 2"/>
              </a:rPr>
              <a:t>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" name="itslogo-bggreen50" descr=""/>
          <p:cNvPicPr/>
          <p:nvPr/>
        </p:nvPicPr>
        <p:blipFill>
          <a:blip r:embed="rId2"/>
          <a:stretch/>
        </p:blipFill>
        <p:spPr>
          <a:xfrm>
            <a:off x="1244520" y="122400"/>
            <a:ext cx="622440" cy="94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163440"/>
            <a:ext cx="12797640" cy="9434160"/>
            <a:chOff x="0" y="163440"/>
            <a:chExt cx="12797640" cy="9434160"/>
          </a:xfrm>
        </p:grpSpPr>
        <p:sp>
          <p:nvSpPr>
            <p:cNvPr id="44" name=""/>
            <p:cNvSpPr/>
            <p:nvPr/>
          </p:nvSpPr>
          <p:spPr>
            <a:xfrm>
              <a:off x="959760" y="9139680"/>
              <a:ext cx="4906800" cy="457920"/>
            </a:xfrm>
            <a:prstGeom prst="rect">
              <a:avLst/>
            </a:prstGeom>
            <a:solidFill>
              <a:srgbClr val="bdd2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59760" y="3412440"/>
              <a:ext cx="11837880" cy="1066680"/>
            </a:xfrm>
            <a:prstGeom prst="rect">
              <a:avLst/>
            </a:prstGeom>
            <a:solidFill>
              <a:srgbClr val="bdd2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33000" y="163440"/>
              <a:ext cx="93600" cy="93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33000" y="485640"/>
              <a:ext cx="93600" cy="91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33000" y="803160"/>
              <a:ext cx="93600" cy="91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33000" y="1445760"/>
              <a:ext cx="93600" cy="91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33000" y="1763280"/>
              <a:ext cx="93600" cy="93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33000" y="2085840"/>
              <a:ext cx="93600" cy="91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33000" y="2403360"/>
              <a:ext cx="93600" cy="91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33000" y="2725920"/>
              <a:ext cx="93600" cy="88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33000" y="3045960"/>
              <a:ext cx="93600" cy="91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352920" y="9337680"/>
              <a:ext cx="6064560" cy="90000"/>
              <a:chOff x="6352920" y="9337680"/>
              <a:chExt cx="6064560" cy="90000"/>
            </a:xfrm>
          </p:grpSpPr>
          <p:sp>
            <p:nvSpPr>
              <p:cNvPr id="56" name=""/>
              <p:cNvSpPr/>
              <p:nvPr/>
            </p:nvSpPr>
            <p:spPr>
              <a:xfrm>
                <a:off x="6352920" y="9337680"/>
                <a:ext cx="9360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206480" y="9337680"/>
                <a:ext cx="9288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059680" y="9337680"/>
                <a:ext cx="9108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912520" y="9337680"/>
                <a:ext cx="9108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766440" y="9337680"/>
                <a:ext cx="9288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619640" y="9337680"/>
                <a:ext cx="9288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72480" y="9337680"/>
                <a:ext cx="9360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326400" y="9337680"/>
                <a:ext cx="91080" cy="900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33000" y="1125720"/>
              <a:ext cx="93600" cy="885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0" y="5170320"/>
              <a:ext cx="2672640" cy="2673000"/>
              <a:chOff x="0" y="5170320"/>
              <a:chExt cx="2672640" cy="2673000"/>
            </a:xfrm>
          </p:grpSpPr>
          <p:sp>
            <p:nvSpPr>
              <p:cNvPr id="66" name=""/>
              <p:cNvSpPr/>
              <p:nvPr/>
            </p:nvSpPr>
            <p:spPr>
              <a:xfrm>
                <a:off x="0" y="5319360"/>
                <a:ext cx="984600" cy="22950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1680" y="5170320"/>
                <a:ext cx="1830960" cy="26730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77560" y="6296760"/>
                <a:ext cx="140040" cy="16200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1920" y="3200040"/>
            <a:ext cx="1087920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1"/>
          </p:nvPr>
        </p:nvSpPr>
        <p:spPr>
          <a:xfrm>
            <a:off x="961560" y="8748360"/>
            <a:ext cx="2667240" cy="638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spcBef>
                <a:spcPts val="1188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  <a:defRPr b="0" lang="en-US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188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fld id="{2C28CEDD-B4B9-4EAD-8B97-804AB4F9A94B}" type="datetime"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2"/>
          </p:nvPr>
        </p:nvSpPr>
        <p:spPr>
          <a:xfrm>
            <a:off x="4373280" y="8748360"/>
            <a:ext cx="4056120" cy="638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spcBef>
                <a:spcPts val="1188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  <a:defRPr b="0" lang="en-US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88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3"/>
          </p:nvPr>
        </p:nvSpPr>
        <p:spPr>
          <a:xfrm>
            <a:off x="9174240" y="8748360"/>
            <a:ext cx="2666880" cy="638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spcBef>
                <a:spcPts val="1188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  <a:defRPr b="0" lang="en-US" sz="1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1188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fld id="{1EBADC9C-D8BB-48C0-A64A-EF3F0BAC748D}" type="slidenum"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0360" y="2400480"/>
            <a:ext cx="7456320" cy="5891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Triggers: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800280"/>
            <a:ext cx="1088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880" rIns="12888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earCase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1" name="essentialslogo" descr=""/>
          <p:cNvPicPr/>
          <p:nvPr/>
        </p:nvPicPr>
        <p:blipFill>
          <a:blip r:embed="rId1"/>
          <a:stretch/>
        </p:blipFill>
        <p:spPr>
          <a:xfrm>
            <a:off x="800280" y="2533680"/>
            <a:ext cx="4000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Initial Developm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184904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e a test VOB so your trigger does not affect any real 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ec a shell instead of a scrip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y the environment vari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y basic operations by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 pre-triggers, test the return status mechanism in a simple scrip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re you know how to return value before programmatically doing s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Initial Debugging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10109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un the script by ha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the CLEAR* env vari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ke the script di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urn on all debug switches and environment variab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spcBef>
                <a:spcPts val="799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roduction Testing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f you invoke by leaf n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ace the new script in an earlier path location on the testers machi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f you invoke by full pat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ap every trigger script in a standard debugging framework that allows a specific user to create debug versions of the script\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e next slide for a simple batch file wrapper (Not that you would ever write .bat trigger script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ample Debug Wrapper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test_script = name of the script to debu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t the following header in every trigger scrip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“%CLEARCASE_USER%” == “debugger” goto checkdebu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checkdebu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“%test_script%” == “” goto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“%1” == -test- goto debu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ll %test_script% -test- %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debu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&lt;actual script lines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rt si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c a she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 at environment vari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 exit mechan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itial test in a test VO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bug new triggers in test VOBs fi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t debug code in every scrip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 all trigger scripts to be tested by selected individuals on live data prior to site wide deploy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0360" y="2400480"/>
            <a:ext cx="7456320" cy="5891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Triggers: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NT/Unix Interop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120680" y="800280"/>
            <a:ext cx="1088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880" rIns="12888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earCase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1" name="essentialslogo" descr=""/>
          <p:cNvPicPr/>
          <p:nvPr/>
        </p:nvPicPr>
        <p:blipFill>
          <a:blip r:embed="rId1"/>
          <a:stretch/>
        </p:blipFill>
        <p:spPr>
          <a:xfrm>
            <a:off x="800280" y="2533680"/>
            <a:ext cx="4000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4000" y="2590560"/>
            <a:ext cx="11847600" cy="6172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iggers are run on the invoking cli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-exe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invokes the same operation on Unix and Windo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t solutions included creating .bat files that invoked themselves as perl scripts on Windows and ran directly as perl scripts on Uni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hs to the .bat file were different on each platform, so search paths were used (security issu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oda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14681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parate platform execs are now availa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ecunix -execw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e a single script called by both exec’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aths are different, but the code is comm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on code is not always ea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e separate scrip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w you have two scripts to maintain, but no common code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e separate wrappers that call common co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mmon Code Tips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le path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functions that hide platform differen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Unix style separator (/) on Windows platforms if the path is enclosed in quo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:\src\notes.txt = “d:/src/notes.tx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earPrompt works on both platfo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with multiplatform as well as cmdline/GU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ython Functions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.path.joi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 path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.path.spli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e path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.path.isfil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existence of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.path.isdi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existence of 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.nam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os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.getenv(‘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ENV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’)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en.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.envir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all env variab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4000" y="2590560"/>
            <a:ext cx="11847600" cy="6172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you trust your developer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course you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does policy allow you 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much accountability is requir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effort are you willing to expen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3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ggers that enforce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34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l-proof trig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0960" indent="0">
              <a:spcBef>
                <a:spcPts val="451"/>
              </a:spcBef>
              <a:buNone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45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ide before trigger implemen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erl Functions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der co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ec separate scripts for Windows/Uni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l common code for complicated oper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functions that hide os differences where possi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0000" y="2400480"/>
            <a:ext cx="6465960" cy="5891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Triggers: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VOB Storage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800280"/>
            <a:ext cx="1088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880" rIns="12888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earCase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essentialslogo" descr=""/>
          <p:cNvPicPr/>
          <p:nvPr/>
        </p:nvPicPr>
        <p:blipFill>
          <a:blip r:embed="rId1"/>
          <a:stretch/>
        </p:blipFill>
        <p:spPr>
          <a:xfrm>
            <a:off x="800280" y="2533680"/>
            <a:ext cx="4000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VOB Storag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exec scripts that are stored in a VOB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gle copy of script under version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to access the correct versio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unt the VOB on all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dicate a dynamic vie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must be started on every cl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on Unix, difficult on Wind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 Exec a version extended 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any active dynamic vie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on Unix, more difficult on Wind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es not work for snapshot view cl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Version Extended Nam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T can only exec a file that ends in .bat or .exe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’t select by branch\LATEST or by version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select by label with form of *.bat or *.ex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sion Extended access works only from a setview (or drive letter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’t use from cd view on Unix or m: on 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ecuting scripts from the VOB sounds good, bu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compatible with snapshot vi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fficult from Windo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40000" y="2400480"/>
            <a:ext cx="6465960" cy="5891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Triggers: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Outside storage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120680" y="800280"/>
            <a:ext cx="1088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880" rIns="12888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earCase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5" name="essentialslogo" descr=""/>
          <p:cNvPicPr/>
          <p:nvPr/>
        </p:nvPicPr>
        <p:blipFill>
          <a:blip r:embed="rId1"/>
          <a:stretch/>
        </p:blipFill>
        <p:spPr>
          <a:xfrm>
            <a:off x="800280" y="2533680"/>
            <a:ext cx="4000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External Scripts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scripts are outside the VOB, where should they be located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trigger script for all VOB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accessible from all cl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location to update with new 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trigger script for each VO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accessible from clients that mount VO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239920" indent="-3207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put it in the VOB storage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locations to update with new 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239920" indent="-3207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has different path for each VO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2773440"/>
            <a:ext cx="1150596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mature sites access scripts outside of VO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shot views and the difficulty of accessing the correct version of scripts are showstopp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ripts are versioned in a VOB and copied o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ingle script location is prefer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 access is easier than keeping multiple locations upd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ingle script, called by all triggers, that dispatches to sub scripts, is the current best pract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 all of your debug logic into that one scrip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 be table driven to call different versions of specific scripts for different users for test and debug sess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ecurity Example 1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184904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igger execs a script by leaf na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ec stop_elem_removal.b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nv ‘path’ is used to find the .b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n create my own .bat at a location earlier in the search 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ec a script by full pa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ec \\neon\util\stop_elem_removal.b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must have edit permissions for the .b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ecurity Example 2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184904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igger execs a scripting langua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ec perl \\neon\util\script.p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path to the scrip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, the env ‘path’ is used to find perl.ex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n create my own perl.exe or perl.bat earlier in the search 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ec both by full pa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ec \\neon\bin\perl \\neon\util\script.p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must have edit permissions for perl or script.p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erl and Securit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 can set environment variables that cause perl to run interactivel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marily for debug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s you to step through the script and run things interactive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 next slide for description of vari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y user can set them and subvert the perl script by han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erl –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stricter secu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n perlse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mo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erl Debugging &amp; Securit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xport PERL5OPT=-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causes Perl to run in debug mod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ser can then run interactive comman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at for debugging; Bad for secu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export PERL5DB=‘&lt;</a:t>
            </a:r>
            <a:r>
              <a:rPr b="0" i="1" lang="en-US" sz="3600" spc="-1" strike="noStrike">
                <a:solidFill>
                  <a:srgbClr val="000000"/>
                </a:solidFill>
                <a:latin typeface="Courier New"/>
              </a:rPr>
              <a:t>system command&g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for automatic execution prior to debugger contr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s automatic processing before debugging se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port PERL5DB=‘exit 0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ould cause an instant return of success from the trigg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560" y="2773440"/>
            <a:ext cx="10882080" cy="62942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security is a concer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full paths to both interpreter and scri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600200" indent="-318960">
              <a:spcBef>
                <a:spcPts val="7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common network path to scripts and tools, or all machines must have identical tool/script instal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rict write permissions on tools/scri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that your mechanism of calling interpreters is sec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0360" y="2400480"/>
            <a:ext cx="7456320" cy="58910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Triggers: 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Debugging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120680" y="800280"/>
            <a:ext cx="1088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880" rIns="12888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earCase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essentialslogo" descr=""/>
          <p:cNvPicPr/>
          <p:nvPr/>
        </p:nvPicPr>
        <p:blipFill>
          <a:blip r:embed="rId1"/>
          <a:stretch/>
        </p:blipFill>
        <p:spPr>
          <a:xfrm>
            <a:off x="800280" y="2533680"/>
            <a:ext cx="4000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560" y="85212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mmon Questions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4000" y="2590560"/>
            <a:ext cx="11847600" cy="6172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rmAutofit/>
          </a:bodyPr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itial Develop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access the necessary informa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return the correct value for pre-trigg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itial Debug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easiest way to test trigger scripts during initial developmen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80960" indent="-480960">
              <a:spcBef>
                <a:spcPts val="9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duction Tes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399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production test a finished trigge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7:49:34Z</dcterms:created>
  <dc:creator>Chris Robinson</dc:creator>
  <dc:description/>
  <dc:language>en-US</dc:language>
  <cp:lastModifiedBy>Administrator</cp:lastModifiedBy>
  <dcterms:modified xsi:type="dcterms:W3CDTF">2001-02-23T20:17:52Z</dcterms:modified>
  <cp:revision>181</cp:revision>
  <dc:subject/>
  <dc:title>Module Title: Subtitle</dc:title>
</cp:coreProperties>
</file>